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148E-5E79-4BCE-ACDC-3C075F76F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04CB-555D-40F0-8FD9-EB9F5BB79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8737-BE1C-4CA9-961D-C41E18743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CF54-6717-46D6-84B8-6AC0C2D35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BD07-16EB-4180-965A-7875F53BF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9B66-011C-495E-A3AF-5475DA6F7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222C-E5F7-4F92-8BA3-3ECC49E9F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64D3-A33D-4414-BC64-C3B21D716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5797-CEE8-4367-B9D6-B922100DA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C70E-BA7F-4779-9DB0-4D7C4D2C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2D26-2068-44AB-A25D-93B8F8684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6EA3-A58B-499D-BE22-B5CBB76D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AE789-7480-4872-A0AC-FC9789D226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1828800"/>
            <a:ext cx="739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&lt;Tytuł prezentacji&gt;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3581280"/>
            <a:ext cx="85341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Dat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Prowadząc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ziękuj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my okazj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asted-image.png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41907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80880" y="5410080"/>
            <a:ext cx="84582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kreśl swoje roszczenie, na przykła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zeznaczenie 20 000 zł na projekt mający na celu udoskonalenie treści w zakresie obsługi klienta pozwoli na oszczędności i podwyższenie poziomu satysfakcji klienta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laczeg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981080"/>
            <a:ext cx="82296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aj uzasadnienie swojego roszczenia, na przykła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% rozmów z konsultantami ds. wsparcia klienta dotyczy problemów, które klienci powinni rozwiązać za pomocą treści z pomocy dostępnej na stron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 na 10 badanych klientów zgłosiło, iż nie byli w stanie znaleźć potrzebnej odpowiedzi w Internecie i zadzwonili na infolinię wsparcia klienta po pomo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daj dodatkowe slajdy w razie konieczności. Zwizualizuj dane, jeśli jest to możliwe (użyj innego szablonu slajdów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co z teg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676520"/>
            <a:ext cx="8229600" cy="43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aj powody, dlaczego liderom powinno zależeć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ź tokiem myślenia biznesmena: jak ucierpi na tym bilans, marka itd.? Przykład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Średnio płacimy 3 zł za rozmowę dotyczącą obsługi klienta, co daje 3 mln zł rocznie, przy czym minimum 50% rozmów to rozmowy z klientami, którzy mogliby rozwiązać problem korzystając z treści dostępnych w Internec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 ostatnim kwartale 10 000 tweetów, w których pojawiła się nazwa naszej firmy, pochodziło od klientów narzekających na treści publikowane w materiałach wspar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daj dodatkowe slajdy w razie konieczności. Zwizualizuj dane, jeśli jest to możliwe (użyj innego szablonu slajdów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e to nie wszystk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066680"/>
            <a:ext cx="8229600" cy="55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zupełnij stwierdzenia „i co z tego?” o dodatkowe informacje, na przykła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tnieje dwa razy większe prawdopodobieństwo stwierdzenia przez klientów dzwoniących na infolinię obsługi klienta po poszukiwaniu informacji w Internecie, iż są niezadowoleni z naszego poziomu obsługi klien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zmowy telefoniczne z konsultantami call center prowadzone przez osoby, które najpierw szukały rozwiązania problemu w Internecie, trwają o 30% dłużej niż rozmowy telefoniczne z innymi użytkownikam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0% respondentów twierdzi, że wyrażało niezadowolenie w związku z materiałami na temat obsługi klienta w Internecie w rozmowie ze znajomymi, współpracownikami lub członkami rodziny w kontakcie bezpośrednim lub na portalach społecznościowy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daj dodatkowe slajdy w razie konieczności. Zwizualizuj dane, jeśli jest to możliwe (użyj innego szablonu slajdów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822960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aj przykład ze studium przypadku lub cytat z opinii eksperta jako uzasadnienie. (W razie konieczności dodaj slajdy.) Przykła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 naszego badania przeprowadzonego w roku 2014 wynika, że nasza firma odróżniała się od konkurencji [na rynku firm z sektora technologicznego] głównie dzięki sekcj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rwis i Wsparci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Tego rodzaju treści są najważniejsze, jeśli chodzi o zapewnienie świetnej obsługi klienta, choć często bywają traktowane po macoszemu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k Barnes, dyrektor ds. badań, Gart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kie jest ryzyk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295280"/>
            <a:ext cx="4495680" cy="42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zedstaw najlepszy i najgorszy scenariusz na jednym lub więcej slajdów. Zwizualizuj i przedstaw konkretne dane liczbowe, na przykła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kładając, iż istnieje 25% szans na to, że ulepszenie treści nie zaowocuje redukcją kosztów ani poprawą poziomu satysfakcji klienta, stracimy około 5000 z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kładając, iż istnieje 75% szans na to, że ulepszenie treści pozwoli zmniejszyć liczbę telefonów do call center o połowę, zaoszczędzimy 1 mln z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asted-image.png" descr=""/>
          <p:cNvPicPr/>
          <p:nvPr/>
        </p:nvPicPr>
        <p:blipFill>
          <a:blip r:embed="rId1"/>
          <a:stretch/>
        </p:blipFill>
        <p:spPr>
          <a:xfrm>
            <a:off x="4724280" y="1066680"/>
            <a:ext cx="41338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kie są wymagani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19320" y="2057400"/>
            <a:ext cx="731520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konaj przeglądu działań i kosztów. Przykład: tabela 2.1 na str. 17 książk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Zarządzanie treścią. Strategie i narzędz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konaj przeglądu kamieni milowych i harmonogramu. Patrz str. 55 książk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Zarządzanie treścią. Strategie i narzędz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 dalej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19320" y="2057400"/>
            <a:ext cx="731520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zedstaw kolejne kroki w projekcie, w tym uzyskanie akceptacji na kontynuację pra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datkowe kolejne kroki mogą obejmować: przydzielenie zasobów, zatrudnienie wykonawcy lub konsultanta, przeprowadzenie rozmów z interesariuszami it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2T14:41:08Z</dcterms:created>
  <dc:creator>bszmatiuk</dc:creator>
  <dc:description/>
  <dc:language>en-US</dc:language>
  <cp:lastModifiedBy>bszmatiuk</cp:lastModifiedBy>
  <dcterms:modified xsi:type="dcterms:W3CDTF">2017-01-13T11:28:22Z</dcterms:modified>
  <cp:revision>8</cp:revision>
  <dc:subject/>
  <dc:title>Bez tytułu slajdu</dc:title>
</cp:coreProperties>
</file>