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E8A30-D4E2-4C96-A021-964528623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08567-A723-4D8A-BFA6-268766916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E255D-C427-4ECF-AFA1-2A013804E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1B65B-4ED4-4726-BEDA-710690432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C63F-40C0-4410-B564-EC1944091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E9358-25A3-4C18-BCD7-6072B42A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CB61D-87B9-4865-938E-3CE41720C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9CC96-4BCD-4858-9C7D-D9707D0F8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73798-0EE2-40E6-AE9A-61F301DDA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B1DD-7C3B-4E6F-B353-0263C5F0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E507-A9C4-44B3-9BC9-3336254B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32187-D8F9-4720-96DD-48EDEA49B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782F9D15-2CD0-4906-9699-43DD93B34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23939E05-88E5-4DE6-9295-283225A99E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96F8733-1ACB-48A7-95A8-EFA2D0A8C3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2985A597-02D8-41F0-AFE0-016B68B840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B8B3305-7514-49A3-89FE-1E18DD2EC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31E91C-ACA5-4B60-9470-42339D0A3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1439EB6F-244F-408E-9097-6A87FF1ABA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091422-0420-4D22-8D2F-A050C8B48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F3A484-1258-4EE6-AF87-6CE0AD4FA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7B31FB89-8A20-43FB-B2E8-4D37DBB667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787E565-5595-4C8D-9E48-E78984F64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489BF02-2F33-4D79-A073-89FFCD3BC8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7C3BED6-710C-465C-9234-427550321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FDAAD2-3731-4581-9B1A-4F391EBE7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50A8DE-75CB-4AE6-990B-E86A2E6A1B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9A2297-6E3C-4497-9946-ACE97CBD7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040EF3F-B55B-4F7A-ACDF-C88B830E4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1D300E6-D360-4332-BC01-CEC019C56C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C49A47-CECE-4621-89F0-8311F44A6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174958-8B78-489C-B994-B65559F6FE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2B0A223-3F2E-4B31-B8DA-7EA6E887BCE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BB6EEB8-F00E-457E-AB6C-D7175FB230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D53872E2-F0C0-4E74-AFFD-14634E0D89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D7326E6-06DA-463C-B283-49BA6F4A9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DE2A8E7-6D2E-4499-A3BD-6B423E0F2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703F208-AC32-49CD-A2C7-90ACA5DD01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3493D8E-B2BC-4764-B489-B4758280A2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99AC24-9281-4B03-B85B-EB16BD3DE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dcterms:modified xsi:type="dcterms:W3CDTF">2009-05-13T18:53:23Z</dcterms:modified>
  <cp:revision>99</cp:revision>
  <dc:subject/>
  <dc:title>Chapter 9 slides, 3rdedition</dc:title>
</cp:coreProperties>
</file>