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561DF-5DDA-40D3-AEFA-6F8DA905B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5A22-FE6C-4FEB-A544-3C4E486C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D2410-CDDB-4B08-A759-16564F49E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077D0-9A80-4A49-8E38-C8A4378C7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FB0A7-D9D6-42EA-A826-C3181728C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F97DC-11EF-4B7D-BFE5-9DD56065F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05E9E-1CAA-4074-B622-EB88B1163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DC32-A013-4A8E-8679-28F8EE48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16DC0-BF38-4E04-8464-CF5BC6B7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63C6-711D-471B-9BF3-8C581029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1B25-0741-4086-B760-25D1576E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DC9B-0159-43A4-A21A-5D3816A59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7425795E-E5A4-4A35-AB9F-F8B45B24F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20DBB84F-4ED8-4E0E-A609-EE18C3639A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D5A0BFE-91BE-4EE3-B0A9-C51B1FA07A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76598BF6-A3A9-4B10-B53F-F3B7F50E43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9E515B4-07E8-4E49-A8C3-D38FC21C3B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E2ED9F-9A66-4441-8C77-310EB8FD7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39C3D508-26A4-492A-A9D6-8F86E51C98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CB9F54-E3DA-45C2-99D6-6DDF83B628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15156C-5D69-42AB-9172-DC0BAB3FE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64E37BA5-ADD6-4A5D-A8C0-8DC92FDE84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F43E899-B83A-4945-94B4-B6B1FEE159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F3D3A72-5D47-4891-84D0-DFB486E49E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44432FA-AD61-4709-B403-C42D4A1A71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224784-A8FF-45D4-AED9-50F0C7B44D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55D220-65A8-4E53-97BD-C5808FFAE8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92E9A6-ACD6-47C0-AF7B-4FF5D846E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6FCC96-9A8B-49B8-8AAA-EF09BEF73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D10FE8E-25E0-4C20-93A3-2A826A44E2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6E91AF-013C-4FB9-AB39-B013F926FB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89E1B6-1248-4F6E-93FD-F36B16AFC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E7A8D88-C843-4CAA-BEB2-67FFDC8B700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047CFC4-974E-4CA4-9043-45BE13A566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B989BBD9-1855-4330-A81A-C54FB80202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8DE32FA-93A4-477B-8B68-8A2A1BDC11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8F5FDA1-BD3D-4AC7-A9DF-775FCC83A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8E0378A-3F1E-4341-BC2F-0A43C7B44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41CF978-690E-4206-9B90-73FEF3007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63395B-21E9-43CF-9FD2-2C47C6223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dcterms:modified xsi:type="dcterms:W3CDTF">2009-05-13T18:53:23Z</dcterms:modified>
  <cp:revision>99</cp:revision>
  <dc:subject/>
  <dc:title>Chapter 9 slides, 3rdedition</dc:title>
</cp:coreProperties>
</file>