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7F969-66CA-48C7-844A-5B5CA57BF0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D0892-F561-4F64-BE81-E97248FF726E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-value variabl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rack a character’s degree of happiness or unhappiness and a set of needs that the simulated character desires to fulfi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hap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93A82-F63A-4B74-A06D-F037477759FC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060AD-6FDB-4597-BC30-5BAEB5517FD9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C88C1-77D6-4939-AB5A-54F1A0DB569D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4549F-985E-4479-98A5-49FC54174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03768-4213-4356-9D1B-5126C47B2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B6A15-6E13-4E10-93B9-6243C46C7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8828F-CF27-4B6F-90C4-3C448669F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36CDF-F325-48C3-B3A5-6D2AAEF9C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A1EB2-FF06-4B40-98B7-610AA9218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6E60B-4BAA-4259-B731-D16BFCB4F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8A7A4-17F9-4BAF-9C46-64D35AA49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3EA3D-298E-4D12-B431-2EC056665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C61CE-E428-4532-B474-AEBE2452F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C31F5-88B6-476E-B086-DA5A91173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16F53-8175-499C-B5AC-BD9B3FE0C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E5163-837A-495E-A1DA-2FE7F871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FC94F-49E8-483F-9FDF-2AACE027D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52859-0C1E-4D6D-97F3-B254C748F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DA83A-5CCA-4B6E-97E1-46CB0DBFC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2799E-E1ED-4A41-8CF8-A4E5471E8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63203-8B09-4117-A9FD-A6247991A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699D2-EBAA-4816-B3CF-B0CB97AF6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F4A4E-7E28-4622-82B3-5E4AC3163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172BF-2007-4D58-BCD2-EB921C146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EB19B-7CF0-4F2F-BBFD-901043F2A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72908-3249-4CE7-AA49-63FF692CD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5F30F-B55A-4A26-BF37-C5AD4D2D5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984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8 Construction and Management Sim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2A92D-4F15-41F3-A419-D1A57EDBEFF9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B7A09-4932-401B-91EB-ACF2642F2F4F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06142-A4F4-416B-9DAE-66ABAF13CF96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8: Construction and Management Simulation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gle-player unless it’s a hybri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ing individual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CMSs model behavior statistically for the whole group and do not simulate individu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ling individuals is more difficul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a behavioral model for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a variable to track their happine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ase happiness on player’s skill at meeting their nee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tistics can be computed from all the individu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11EEF-2AC6-4815-BE32-5253E5C0A7C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8B71091-5E5D-421D-9649-C8E24F64569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ind reading enables the player to see an individual’s needs and fulfillment statu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vis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lerts about local probl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ify the player of general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a threshold level at which the advisor will appe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s to turn off the advisor to add to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7C6AD-DC16-496D-8BB6-DACC465767CF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B2DAFE5-8BE1-4C48-A00E-F91DF68915D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re business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construct financial fortunes, not visible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vise an economy and mechanisms for manipulating 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l challenge is to make the subject visually interes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runaway profits by controlling when and how a player can buy and se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6110B-DE14-4BDB-8884-D728C0524A8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066A0B6-07CA-4777-B6D7-621E1A10A78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ybri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fer economic, exploration, and conflict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the economic aspects before adding other elem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ther elements usually depend on the econom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mistake in the economy can ruin other parts of the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49BC9-762A-49BE-81E4-41250C3FDC4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5871C67-7109-4611-AA45-D004852C655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imary resou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Usually m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ey and peop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uilding materi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angible entities in plan-and-build mechan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tangible or not a resource in purchase-and-place mechan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E3F19-7EEF-4510-979A-7D6DEA8423C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09E9329-1799-4926-A943-971D374AF10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construction converter changes labor, money, and materials into build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ains and maintena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in permanently removes a resour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cay is the usual dr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tenance can be automa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asters force players to a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2D4AB-61C3-44FE-B248-6308BBAB736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766DDE7-4FEE-4817-9B3C-19BEFB0F0D2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ed physical space, usually outdo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erial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ten set in 2D or 2.5D worl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re business simulations might not require a physical sett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EE557-7C01-4745-927B-B618E9C78FA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3DF1A8F-EB5F-4D91-93C1-7C1C93D2EB8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s usually multipres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lkthrough mode allows players to see the world in first-person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ometric perspective is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environments allow players to zoom in and out, see a broad overview, or focus on a local probl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6C648-FA89-4C37-B29E-80F7620CB7E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3144CDF-9644-4885-BE59-F6701DCDBC0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erface can be more like standard computer softw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play important scalar variab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aph can show values over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ctor variables describe related data, such as the amount of water available in different loc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BD2C6-7A21-4263-A00A-8707E199E95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2AD4863-9D94-4FD5-9873-A2AC57BCA7B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construction and management simulatio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differences between plan-and-build and purchase-and-place gameplay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the basic gameplay modes and artificial behaviors common to this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263C3-9A1F-4339-BDE6-4678003D97F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190344B-7F9E-462F-BD46-53F37CD5455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a construction and management simul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ces between plan-and-build and purchase-and-place gameplay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basic gameplay modes and artificial behaviors common to this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70F8F-FCE4-4DBC-AE44-6F5A0EC495C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76322F6-B2DF-40B6-B97D-B6218BA6CF3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issues facing a designer for user interface for this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the core mechanics of economies, construction, and manag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BD1E9-47C0-43DC-9A40-1FCFD107CCA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9E4BDE9-9B99-4966-B326-ABBC7D60A5A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issues facing a designer for user interface for this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core mechanics of economies, construction, and manage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325B4-68B4-4766-B0BE-3F53ED4E646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24FB6E8-E6CF-403E-A63A-17B745DD218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Construction and Management Simulations?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majority of challenges are economic, concerned with grow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truction activity is an essential element of any CM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ttern recognition and exploration challenges may also be pres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MSs avoid physical challenges, as well as conflict challenges, unless they are hybrids with another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A8426-81BE-41CD-97AC-4EC2F689C7B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323C685-69A4-4B07-A9A3-E1776B03334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’s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’s not easy to define the player’s role because that role seldom corresponds to an actual activity in real lif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desire to create is in the heart of a CMS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7757A-E4C4-4125-915F-F75D1872774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CF08BDA-6EB0-4FE8-96B4-D65A86CE2EB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 levels or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begin with an empty space for players to start in from scratch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ten have no victory condition, only lo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also offer different scenarios for player to t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enarios are partially built when player starts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enarios may have victory conditions as well as loss condi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E88BE-5E6B-4BB1-86D2-F0F426CDCD2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4849D2D-86E3-42AE-9FF2-5C06F17FDD8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ity of CMSs are games of indirect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game simulates a process that the player can alter only in limited way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owever, some actions, such as changing prices, use direct contr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most CMSs, actual act of construction is not a challen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llenge is in obtaining resources needed for constru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89CB6-F63F-415E-B70B-061156B160A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BAF4949-A88A-4D02-9159-4FC106072AC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rchase-and-place construction mechan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buys an object and places 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t is immediately ready for us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can build objects quick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sources used immediate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n-and-build construction mechan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alternates between building and manag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plans where to build, the computer then buil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bject not ready for use until construction is complet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builds objects slow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must manage the resource flo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86B86-8B6D-470A-ADA1-64FD34DE12B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5972317-5326-48B7-BDA2-9BB27E63F94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mol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s to demolish constructed ite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t the cost for demol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and loss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CMSs do not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ss condition is bankruptc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scenarios can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F2C09-7490-4D80-B125-7D4ABF12D03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E380650-1B79-46C4-A19B-7664F941647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4:10:02Z</dcterms:modified>
  <cp:revision>420</cp:revision>
  <dc:subject/>
  <dc:title>Fundamentals of Game Design, 2nd Edition - Ch 18</dc:title>
</cp:coreProperties>
</file>