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ADD6-E0F2-4041-9961-8AA52D27B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on sequitur is something that does not follow log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similitude means having the appearance of truth. Sports games must be reali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687DE-4394-44A4-B679-C20D81F66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93B74-35AD-4A21-BA3B-C1ACF460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4C34F-61AD-428D-AAFC-C46794F2F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C7F7A-0084-4FFE-9E6F-590499CA5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320B-FCF2-4C7A-B658-7F401095C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ECA7-AEB8-40E6-8F5F-8CF3537C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73FA-FB55-4F1F-9DEC-62106985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7660-982E-40DB-887B-FEC025AA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EFE9-56D8-485A-B19F-4543A0C1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9A96-90FF-4F16-95D0-79EA2997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DB3A-5B8D-410F-B8EB-C3EA8809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1E0B9-82BE-40B9-B754-BDD743A6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89C3-BCD7-4A4A-9DEF-4F43724B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663A-942F-465C-B389-52901860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B044-D0DF-4AEC-A5A6-44C5BF0B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1B8B-DCFD-4809-8640-3AE72485F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90A2-4E74-411A-AD80-4B03B2055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0B488-3F45-4E19-BE58-75D36A4C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67148-7E39-4342-938B-942E273E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E4318-6986-4657-8DF6-1853434F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8BF97-90F0-476C-A7B3-E3CBB4AB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D61EA-D2C4-4ABE-BA23-0E3B6ED1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331AB-DE03-4C3A-9C03-AA6C61FF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7302F-834B-4947-970D-AE79850C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37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2 General Principles of Level Desig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FF74-5D83-4D30-A834-9E7988F37E8D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62A4-605F-4168-B52F-0285AF297014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52D2-6CC3-4624-BD51-91B7068BCE24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2: General Principles of Level Design</a:t>
            </a:r>
            <a:r>
              <a:rPr b="0" i="1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allel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odern variant of linear layou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Variety of paths can go through th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n reflect a foldback story structur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ing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ath returns to its starting poin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val tracks or twisting road-racing tracks are ring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for rac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49520" y="4191120"/>
            <a:ext cx="1457280" cy="2158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7913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3D569-34E0-4E9F-BCCE-06786990026E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BBDADE-D65A-46CC-8C66-B3A23B2605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twork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paces connect to other spaces in different way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ive the player freedom to take any path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ories must be able to tolerate player experiencing events in any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b-and-spoke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ntral hub is usually a safe zon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rovides some choice of where to g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k off some areas to control sequence a litt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00200" y="4419720"/>
            <a:ext cx="1905120" cy="1857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638680" y="4343400"/>
            <a:ext cx="2286000" cy="1901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A83D7-336D-4E49-960F-684EA7C78A81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E7FC4E-5D2C-4CE6-89F4-BD62C68D4A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ations of layou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bines aspects of several layout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-playing games and adventure games often use combinatio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68760" y="3429000"/>
            <a:ext cx="3605040" cy="267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88721-CD39-4329-9EB9-6B0CE45C476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FA28E7-1C77-451A-AE60-DF8999D264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 assembles components to create the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gh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 palet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nd atmospheric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visual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bient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audio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A697D-457E-43A2-A961-EEB13CA026D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86B018-21B7-43C5-B520-711E8A2EFA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 refers to change o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esigning progression, consider these facto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505320"/>
            <a:ext cx="3886200" cy="23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c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durat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cillary rewards and environmental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actical gameplay reward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3505320"/>
            <a:ext cx="38862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fficulty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ons available to the player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ory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growth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3BF8E-64ED-4F95-8F49-BC70B2D1C1B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448872-6BE7-48E9-9792-62F49EE486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cing refers to the frequency of individu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nre affects pac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deathmatch shooters use the fast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use the slow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with fast and slow peri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all pacing should remain steady or become more rapid near the end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03644-BD45-435E-9934-A04C826C437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A47E19-CBFD-4927-9145-A750DAF71B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utorial levels teach the player how to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what scripted experience that explains the game’s user interface, challenges, and ac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oduce features in an orderly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witch off features not yet introduc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game is complex, use more than one tutorial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ight screen elements when you introduce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 player go back and try things again conveni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iceover narration or text can expla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rule: Make tutorial levels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op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EC26A-5672-4729-8E98-348D78A3FF0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C495F8-8293-4C3D-90BD-E23276C6DB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to level design handoff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st features in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rough overview map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pha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level in detai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sequence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cument the gameplay, art, performance, and code requir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460E3-7193-4603-B7B6-530E32A456F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A222B8-7F6F-4FCB-82B7-D0310823D1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toty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emporary models of the landscape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s serve as blueprints for the art tea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the proto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edback from the design, art, programming, audio, and testing tea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23397-1040-4797-BAC3-D83EB6D6F85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AAEC78-F996-428A-9A26-4918F32F7C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finement and lock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corrections based on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and correct until the level is flawl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 to art handof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all files to the arti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l artists how the level should look and 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act the audio team for any needed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DB320-29DA-4D5F-B88E-8312D18D2F1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E5733F-8CA3-4460-9725-4D97E3D2875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level design can enhance or undermine a game’s story and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 between universal and 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possible level layouts and understand when to use each and how to combine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6E601-DF47-413D-88CD-848EA1334C1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08B546-B5F7-4F71-B6A9-D06493F0E0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 art and rigging pa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 team builds the real artwork and rigg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might need to incorporate the new content into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 to level design handoff and review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 final art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duct a re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22873-E672-45AC-944F-528653E53EB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FAA3FB-2F8C-409D-95C2-C9CBD239E2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nt integ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semble all the assets into the complet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just any rigging as necess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g fix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for bugs and mistakes and hand off to Q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testing and tun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A creates a test plan and begins alph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oroughly alpha tested, hand off to bet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B62DD-E4BF-4A6E-904A-6C092769084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D80552-EE9B-4664-AF16-5C3FFD059F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t the scope righ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within your available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common to design something that’s too bi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events in a game make it harder to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rewarded, not punished, for using their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C5354-93DF-43C5-8F9C-EBD199AD2ED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3A2DA6-9566-4E2A-8DD3-A6735A7F25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typical levels optiona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break the player’s suspension of disbelie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could prevent some players from complet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n’t show the player everything at o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w features gradu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ain the player’s inter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EE359-A45A-429F-BD2D-0C11C2F63C1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3D66DB-2059-4E80-AB53-C875B98AC2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ver lose sight of your aud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-centric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derstand your target audience and deliver what they w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d the “Bad Game Designer, No Twinkie” articles for more examples of design err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ww.designersnotebook.com/Design_Resources/</a:t>
            </a:r>
            <a:br>
              <a:rPr sz="2600"/>
            </a:b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_Twinkie_Databa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94033-8541-4370-BBC3-34C963F5300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85E02F-01BF-4C46-9218-5C1639C1F4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pply key design princip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variety of layo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tmosphere, set a pace, and build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lete the level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common pitfalls of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65316-4718-4617-8FAA-08F62BEABCB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B7A8FB-D8D7-48E7-8DE6-DA4E45B9A9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atmosphere, pacing, and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aspects of the level design proce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some of the pitfalls of level design, such as inappropriate scope an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FC69B-1695-49F8-902A-554262CDAB3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8695E6-F17A-4E03-8C34-B2008A7D62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Level Design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403848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pace in which the game takes plac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itial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t of challenges within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0" y="34290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ermination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terplay between gameplay and stor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esthetics and mood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: constructing the experience for the player using components from the game designer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s create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CC1FD-3C32-4FFC-A57E-9A4F66F4441D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B7790A-B6DA-46D5-AE51-E1BAC17E85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the early levels of a game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e player surmounts a challenge that consumes his resources, provide more resourc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early inform the player of his short-term go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6CCBA-CECC-482D-9B3F-BDF512C0B7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2DC042-B891-4A42-B362-74454D168F5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lear about risks, rewards, and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the player for skill, imagination, intelligence, and dedic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in a large way, punish in a small w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nd more resources (polygons, memory, CPU time) on the foreground than on the backg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rpose of an artificial opponent is to put up a good fight and then lo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multiple difficulty setting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635C0-4631-4565-84CC-F8C11796DB7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D2FCB7-7160-44F9-BFB2-832CE767CD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y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-playing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opportunities for character growth and player self-express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risimilitude is vit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hicle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skillful maneuver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28925-7C55-400C-A326-05FCF632507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4D0781-386D-4D88-B05E-939A9BDC38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 and management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an interesting variety of initial conditions and goa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struct challenges that harmonize with their locations and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lif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te many interaction opportunities for the creatures in their environmen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ve the player time to think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61366-E134-478A-93E8-E0E97F48964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A57344-14A4-4C87-B36C-9255DF6231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ow unconstrained move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rrespond to the outdoo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in war games and role-play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near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quire player to move in a fixed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 move only to next or previous are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traditionally in side-scrolling action games and 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1320" y="4398840"/>
            <a:ext cx="2361960" cy="1928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3ECA7-6589-4974-AAF5-5C78DDA07826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1C12896-9579-4A62-906B-606FEF14723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45Z</dcterms:modified>
  <cp:revision>242</cp:revision>
  <dc:subject/>
  <dc:title>Fundamentals of Game Design, 2nd Edition - Ch 12</dc:title>
</cp:coreProperties>
</file>