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2A53-2AE8-4B54-8E1E-C56E3DC62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ities resemble data structures in programming, but designers should not concern themselves with coding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4132F-1231-442C-BC5D-78C24F0BE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89651-268A-415E-93AF-5E01270F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14612-3042-49BC-A026-920C8D8B9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A567A-B590-40B7-A8C3-4AEC43EE6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2954-74CB-4E82-8806-76F47641B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C40D-370C-44AB-9A01-8D55FC78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BA7D-0524-4515-B80B-C314AED5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A481-B236-41BB-BFC4-1E4CFD35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E1E6-5CBA-4A92-A9A4-6E1C92DD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9AF9-3A64-492B-A8F0-91FF3093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73D4-D55E-46F1-8FDA-B0D95E2E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967C3-FEDB-492A-8FCF-C902FA31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BAD8-A877-4298-9D13-7E2A2D74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3F7A-0536-443A-878F-868F26B9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D9DE-CD30-465B-99F7-B0BB8CFB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A8F6-5126-4386-81BD-96CD30E45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EA2D-EDB9-48DB-A770-118A94A3B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46EF5-621E-4F91-A73F-36BC6A44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A660B-39EE-473F-A3AC-537A712C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756D1-D267-4116-AEF0-60C06F33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22D85-82A2-48E1-97FC-193B1353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471F1-6D6A-4DA4-8A42-904DC60B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60BE2-80C8-4D08-8FED-925748AA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67AF1-7894-4FFD-A82B-20C69E63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0 Core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88C6-23DE-407D-B4F3-90340D53149D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ECBE-8D64-4BC1-B58E-8A3220132C21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BACD-01D6-442D-BF83-F7A512426132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0: Core Mechanic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umeric and symbolic relationship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umeric relationship between entities is defined in terms of numbers and arithmetic opera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lues of symbolic entities can’t be added or manipulated mathematical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must define how symbolic entities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ymbolic entities can control mathematical operations on other numeric ent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5DE70-20B3-4DFC-8B77-B0742F463B5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7E27D2-D2E5-4E2B-B2B3-F3697DCCFC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tity Exam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7925040" cy="46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B3A3E-9B65-4F05-B021-BC8C469FBA7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21334E-EB8E-48AB-B16F-8969B025D8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our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a mechanic that defines the way that a resource or entity comes into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Go” square in Monopoly is a source that produces money according to certain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produce resources automatically or when started by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limited or un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9BE93-4F08-43FE-857B-5225B96E192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A14878-188B-4FB3-8F64-59284373F7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remove resources from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ters turn a resource into a different type of resour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ers change the ownership of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duction mechanisms make a resource available to play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5DEC0-895E-449E-884D-E9279CF9CCA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304D45-7D37-4AD2-8A0B-5061037504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 can be tangible or intang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ngible resources possess physical prope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angible resources do not occupy space or require transpor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feedback loop, a production mechanism requires some of the resource that the mechanism itself produ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problem unless the system runs out of the resourc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is produces deadlo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08D45-4875-46B9-A9F6-EF6420A0E91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BEFF8D-AE9A-4E30-983C-6C1DC1129F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production mechanisms that require each other’s output as inputs are mutually depend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static equilibrium, the amount of resources produced and consumed remains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ynamic equilibrium, the amount of resources produced and consumed fluctuates cycl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1CFD5-5251-4071-BB23-7308C5626A1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FD77AE-B511-4BF3-9772-CFC523187B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present challenges to the player and accept actions from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implement the mechanisms to operat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perform tests to see if a challenge has been surmounte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ive challenges (such as static obstacles) do not require mechanics to ope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ve challenges require mechanics that implement their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E21C6-E294-403C-AEB8-0A18B4E1287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77FA15-EA76-4401-9EA7-BB2B345564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and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available to a player normally do not change much from level to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ions trigger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icated actions may involve manipulation or storage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his case you must create both an event mechanic that implements the action and an entity that stores the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54683-A1FC-4CE8-91F7-F8670AB72F9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3B9A87-259A-4405-9538-92C80964F2A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s of core mechanics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simple and eleg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generalized systems from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terative refin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y to get everything perfect on pap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, test it, and refine the resul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cuss with programmers the level of detail they need in your docum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F4233-619D-4C52-8866-56815435943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5E368D-AE72-4775-AC8E-98B4BD4DD2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visit earlier design work on the project to identify entities and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uns in design documents will probably be implemented as entities or resources or bo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bs are actions that will be implemented as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” and “when” statements identify conditions that trigger and contro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A5FDE-1995-4D79-9584-CC917E72FDC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E374B0-221B-421B-B975-38DE388478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functions of the core mechanics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components—resources, entities, attributes, and mechanics—that define how a game wor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 game’s internal economy controls the way resources and entities are produced, consumed, and exchanged by sources, drains, converters, and trad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98350-BF1B-4BB9-A916-315ACA27E0F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A89951-1D37-4BE0-8951-FF92E7E038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entities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es a noun describe a resource or an entity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n entity, is the entity simple or compoun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 compound entity, what attributes describe i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03698-DA68-4DC1-9438-24E1D1967FA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C933F0-9712-432D-9164-3E21A33D9E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 th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member that mechanics consist of relationships, events, processes, and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nk about your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udy your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lyze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for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941BA-390D-476B-AD3C-C343F85E169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DA94BB-490E-4E7A-B445-CBDEDA909A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pseudo-random numbers, a seed generates the sequence of random numbers produced by the algorith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uniform distribution, the chance of getting any number equals the chance of getting any other numb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metimes you want certain events to be rare and others to be common – for this us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non-uniform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tributions of random numb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F7FDF-E959-451A-A520-2B04D1DCED2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A59236-5E7A-45B8-BC5E-1740AA75E3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generate non-uniform random numbers, generate multiple uniform ones and add them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ing 3 six-sided dice produces non-uniform values between 3 and 18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10 and 11 are common, but 3 and 18 are very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ing nonuniform distribution creates a Gaussian cur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80DC5-8386-43AD-B315-AF6089ADD9C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9C8D8E-2E36-483A-AFB1-E88B72F5F6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onte Carlo Simul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means of testing a complex mechanic to see how it performs in different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 your mechanic hundreds or thousands of times with different random values in the entities it works wi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alyze the results to see if the mechanic is performing the way you expe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ten you can do this in a spreadshe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558C1-43B9-4326-AD8F-5BE8577C528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840CB1-4408-4EDF-B3E5-6A654171E8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resources, entities, and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affect game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vert your early design into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generate 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use of Monte Carlo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63142-580D-4600-97AB-51ABDAA6B27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57E468-7B93-47A7-9BDF-932257BE22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the core mechanics implement both challenges and player actions to manag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design the core mechanics of a game by writing specifications to document the entities and the functioning of the mechanic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random numbers in a game, and test with Monte Carlo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6A261-9D76-4772-834B-BBFAE2E8931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7F2053-B983-46FE-B93E-1368B30311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consist of algorithms and data that precisely define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ation of mechanics varies as project goes through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does not experience core mechanics direc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ame engine is the part of the software that implements the game’s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22809-8A12-4DC3-B96D-A78DB9C26EC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8B8B4F-C6D3-461F-9595-03CB7E22A1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s of the core mechanics in ope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 activ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pt player’s actions and determine their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ct victory, loss, and the termination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AI of  nonplayer character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witch the game from mode to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mit triggers to the storytelling eng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0C15C-4440-4C37-8041-304D213411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CCD530-68D7-4427-B190-C6A4BCE0929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games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real-time game, many mechanics are processes that operate continuous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turn-based game, mechanics compute the effects of the player’s actions after each tu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level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should specify how challenges work in general but not which challenges each level will con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06196-C2EE-45CF-9C94-4095278733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B12405-5012-41CB-9D5C-62FF5CDB64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resource is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yp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of object or material that can move or exchange within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ources are handled as numeric qua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define how resources are used or traded and how they enter and le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e: resources are not objects but types of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cils” are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pencil” or “these 3 pencils” ar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entiti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90537-19C3-4A24-91EA-121263CC17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587113-F6B8-4B1D-B3B2-FC3B34DA2D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entity is an instance of a resource or the state of some element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simple entity is defined by one dat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.g. Points scored in a basketball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ompound entity is defined by multiple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character in a role-playing game has many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unique entity occurs when the game world contains only one entity of a specific 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football in a football game is a unique entity – there is only ever one in play. It is compound because it has several attributes: position, velocity, and sp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6355D-B94E-4251-8F1F-B46569B6CA5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DDC376-5950-4048-A691-4827B48C72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chanics document how the game world and everything in it beha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es the relationships among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lobal mechanic operates throughout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ies the events and processes that take place among the resources and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ck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condi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at trigger events and process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5DF7D-0BA8-4B5F-BD6D-4480D2A4A44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E9D417-F00F-41DD-A671-39956FA3FB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8:33Z</dcterms:modified>
  <cp:revision>197</cp:revision>
  <dc:subject/>
  <dc:title>Fundamentals of Game Design, 2nd Edition - Ch 10</dc:title>
</cp:coreProperties>
</file>