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30049-BA34-4CB5-A441-64A272D3C1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of anomalous time: In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heme Par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visitors to the park appear to stay there for months according to the game clo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details create a rich game world. However, the player can’t micromanage everything. Make sure that the player’s role doesn’t become bogged down in managing unimportant detai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2D7F5E-D5B9-4E62-98C4-394AF4A97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C8A28C-78D7-4036-B807-287CAB316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A22DF1-DFA2-4E6A-ABBC-40855B748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AE573F-DB32-40D0-9E49-1D0F9DEF4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7977C-7DB8-44EC-9D15-2035A88E5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39816-E7B6-4CA2-95BB-24C0CC14A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5F93D-FA78-4C70-BEBC-C33226C29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4C341-0E92-4533-9981-6FB736679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C3BE2-239A-4146-BE6E-5E3ADE304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E73E1-F622-43CD-A17B-795BC57E1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95EEB-C692-45B0-8506-F864EBB16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8C589A-7087-48C3-9270-3B972418B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9F52C-5AA5-4D35-A494-665F98582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5B1C7-E12B-4098-806B-A5B0D3351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A8033-5A6C-4394-83A5-19380CA3A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BA148-CD67-460C-97D3-4F6005BC7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2F07F-3EB0-4A57-873D-F595B9241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211088-2380-4C78-994E-13B8995CE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3CA584-386F-4F61-B804-896D7C0BD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A98672-A52C-41BD-8EB3-7DE55CDEF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645929-93F7-44CC-8660-E11FA428F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5897E9-DDAC-4615-9D37-367A16F1E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4E71F4-8426-4A31-9D45-6222A4408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3D1B54-C693-414B-B848-21EA9B113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097080" y="6248520"/>
            <a:ext cx="3308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4  Game Worl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BAC1C-8608-41EE-9618-2FD1FB00B26A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1B385-8724-441A-8CA1-79BAFCA1F7D4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E210D-5EF2-43FB-B1A7-669D81E32111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4: Game World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emporal Dimens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s the way that time is treated in the game world and how it differs from time in the real world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riable ti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g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me time usually runs faster than real time, and jumps or changes ra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nomalous ti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t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me can move at different speeds simultaneously in different parts of the gam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some games, the player can adjust the speed of time in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D46C63-8698-47C5-A06F-CB4D0674AF6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18E2A33-00C3-42A6-9FCB-BF7322C1908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nvironmental Dimens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s the world’s appearance and its atmosphe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rms the basis for creating art and audio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cludes cultural context and physical surrounding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BCCE9B-6405-4582-82C8-07DE195354F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B3E7B3B-7116-47A8-830B-E8A221D6AC1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nvironmental Dimension (Cont.)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ultural contex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liefs, attitudes, values, political and religious institutions, and social organization of people in the game world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fluences every manmade item in the wor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r interface and backstory should harmonize with the cultu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94B931-C0D3-4596-913B-5A939381E5B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394AB04-B09D-46CF-8C38-AD85E00020C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nvironmental Dimension (Cont.)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hysical surrounding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lude every manmade object, natural object, and sound in the game wor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t the tone and moo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y to make surroundings uniqu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clude as much detail as possible until it hurts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yle includes both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ent of the world itself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hat content is presented to the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1075EC-B7D7-4109-B8B1-A881B36034D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E07D7C5-447B-4BC2-96B1-91EF6BC9CFA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motional Dimens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motions created in the play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motions can be caused in several way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acing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teracting with the charac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ore sophisticated games move beyond “fun” to richer emo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oid “paint-by-numbers” emotional cont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1F1779-9542-4ADF-9813-75179A36001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A7E4684-8649-47BB-A88A-7800B4DE0FB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thical Dimens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s right and wrong in the game world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art of the culture and history in the game worl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uild richer, more involving games by giving players tough moral choices to mak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oid violence for its own sake; give it a purpose and contex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f game world ethics are unrealistic, make visuals unrealistic also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564D17-1EF1-4112-AB72-CB7933284C5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960F1DD-AAC4-4098-AF33-DFC5494D4A0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Realism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ll games, no matter how realistic, require some simplific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gree of realism of any aspect of a game can be found on a continuum from highly representational to highly abstrac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vel of realism differs in individual game component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n have realistic physics but cartoon graphics, or vice vers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BAED36-E06B-4992-9D87-2A3337C9B67C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1F2BB42-F67E-4AB3-A73E-5C7152239CF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ing the purpose of a game wor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ing the physical dimen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ing the passage of ti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stablishing the environ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ing emotions in the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termining ethics in the game wor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stablishing levels of realis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4BCBA2-A925-4EF2-8E6C-1FB136031742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44242A9-993B-4F7F-AA28-AEB782A0175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various dimensions of a game world and understand how they affect the player’s experience of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a physical model for your game world, including its dimensionality, scale, and what happens at the boundari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ain the relationship between game time and real time and decide how time will behave in your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DCFF57-8AAB-41F1-93F4-9260DC6E4F1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9EE0C14-B8DE-44AE-ACF4-793D6E4CED4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eate the culture and environment of a game world, set the level of detail, and define a visual and auditory sty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some of the techniques for influencing the player’s emotion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FD12B2-C1C3-42ED-82D1-C97D0D1E97E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CB0413D-93E0-49AF-B2FF-68BA168A8BB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e aware of how the ethics of a game world can differ from the ethics of the real world and the implications for public acceptance of your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multidimensional nature of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realism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as it applies to games and how it affects the player’s expectations about the experience the game will give he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443325-A2FC-4520-9ADA-449CEA7F779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3058645-FF0F-4F45-8521-4755287F0C8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a Game World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maginary place in which the events of the game occu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esented by images and sound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ot all games have a game world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game world can have a culture, an aesthetic, a set of moral values, and other dimens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A081DF-071D-425D-A43D-B5B5D117EF3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0E4D682-BF2F-45C7-A7E1-A01404EFDD8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urposes of a Game World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ntertai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eate and sustain interes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ll the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C9485C-F07F-4374-86ED-5AF3667A70B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82B9C8A-389C-48B3-BCC5-094BA06483F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Dimensions of a Game World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hysic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empor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nvironment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motion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thic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BC90CE-82B0-4B33-BB21-AF3465F76C5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C4C2AEE-62E5-4E38-B2AB-682CCD429E8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hysical Dimens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mulated physical spa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ized by dimensionality, scale, and boundari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E2FCBF-CE42-407F-9F5D-79DD93C0DAE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0F7C951-E538-40F4-AC3A-4F5CC57ABB2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hysical Dimension (Cont.)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patial dimensional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2D, 2.5D, 3D, 4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3D is now standard on PC and consol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ca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bsolute size of the space and relative size of objects and peop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ffected by choice of camera mod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oundari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establish a credible “edge of the world”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C4BF01-CE4E-45A0-858C-03EF51E8B1E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E3FED48-58A7-4978-9D8B-FAF35772367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5:02Z</dcterms:modified>
  <cp:revision>133</cp:revision>
  <dc:subject/>
  <dc:title>Fundamentals of Game Design, 2nd Edition - Ch 4</dc:title>
</cp:coreProperties>
</file>