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36D0-2033-4C09-AA7E-F1A9BF3BC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ties resemble data structures in programming, but designers should not concern themselves with coding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90B91-C61C-44E9-A2F2-9374C403C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3B65C-4837-4E8F-BD0A-5C15CFB3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81F10-B5DA-41E1-921A-AE86B64DC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1328F-EE08-41EE-9605-DB6771704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49DF-BAEE-444F-AC71-1559B23AA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4724-B7C4-44DD-A5B1-E0CB3DE2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D90E-223E-4AA3-B87E-F32E9BA0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1F96-4C13-4CAA-A880-E680DD99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187B-3B05-4840-9885-5067B0B9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9D34-240D-4EA0-9DC8-147F0C7E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B7E7-F908-4B0C-ADAC-22DF4153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72CFF-E529-4216-A95B-BA2B1B74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6571-2F59-43D2-8288-CD73505B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853D-A11C-4129-8966-2DDA4410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AB6A-478D-4D73-9D67-FC5E0146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E36C-46EE-4219-AB02-A4D63323B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57C6-1EAD-4CDA-AEE4-F8195F1E3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DF01F-D748-4477-B013-7E98776E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76669-9918-4ED6-B28E-AA7B6A48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57358-9BF0-40CE-9182-F5B119EA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A55D3-ED61-4349-A12E-6ABCF23B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98C2C-D573-4EC4-B0B4-D24E9A27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42061-FC32-4CC8-979B-0709CAA1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FDA21-2F45-436D-BF45-6B96E864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0 Core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74F3-740B-43CD-B5E2-693CF79F90D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2C08-8190-4FDA-A95C-F90F9282CE45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51C3-E121-48C7-9B50-DACBD3BE3792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0: Core Mechanic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umeric and symbolic relationship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umeric relationship between entities is defined in terms of numbers and arithmetic opera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lues of symbolic entities can’t be added or manipulated mathematical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must define how symbolic entities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ymbolic entities can control mathematical operations on other numeric ent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E52B8-6BCF-4C3E-A433-F6EFC666119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31238D-6447-4971-83D1-6497EFB40A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tity Exam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79250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A29C9-4EF1-453D-A053-54F6BEC2110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26FBD7-42D5-4FB0-B80D-85BE828828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our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a mechanic that defines the way that a resource or entity comes into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Go” square in Monopoly is a source that produces money according to certain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produce resources automatically or when started by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limited or un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73070-26E3-497C-9128-64027022C80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899618-B8AE-409D-AAED-48A1E6F891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remove resources from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ters turn a resource into a different type of resour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ers change the ownership of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duction mechanisms make a resource available to play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F8491-3EDA-429C-9B47-F6A92EF4FB4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0CDB39-14BA-4A93-9E56-F351475ED0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 can be tangible or intang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ngible resources possess physical prope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angible resources do not occupy space or require transpor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feedback loop, a production mechanism requires some of the resource that the mechanism itself produ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problem unless the system runs out of the resourc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is produces deadlo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6A1F1-C4A3-4231-9EBB-3BD05CD50C1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56C01E-4561-4BCC-87CF-39130B4C1E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production mechanisms that require each other’s output as inputs are mutually depend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static equilibrium, the amount of resources produced and consumed remains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ynamic equilibrium, the amount of resources produced and consumed fluctuates cycl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0D6D5-F512-4F4F-9A33-935E6EE87FE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227C33-8C26-4486-A1BF-DA0B927928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present challenges to the player and accept actions from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implement the mechanisms to operat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perform tests to see if a challenge has been surmounte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ive challenges (such as static obstacles) do not require mechanics to ope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ve challenges require mechanics that implement their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8E019-1FB7-49D6-B313-D5D8EE2B540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9E2D9D-C6E5-4C3B-B694-023563662A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and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available to a player normally do not change much from level to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ions trigger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icated actions may involve manipulation or storage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his case you must create both an event mechanic that implements the action and an entity that stores the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B06BF-B5A8-4630-9B71-4996D795D09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3D039C-EC53-40F9-B3B9-CF0034FAF1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s of core mechanics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simple and eleg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generalized systems from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terative refin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y to get everything perfect on pap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, test it, and refine the resul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cuss with programmers the level of detail they need in your docum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D8A48-DC79-4D20-872C-CCB79F32615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EF488A-58A2-4099-A535-532632C72A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visit earlier design work on the project to identify entities and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uns in design documents will probably be implemented as entities or resources or bo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bs are actions that will be implemented as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” and “when” statements identify conditions that trigger and contro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90B98-B396-4655-8ECF-E10E06D6476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0DE021-6F8B-4C07-9C80-C487E22DD2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functions of the core mechanics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components—resources, entities, attributes, and mechanics—that define how a game wor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 game’s internal economy controls the way resources and entities are produced, consumed, and exchanged by sources, drains, converters, and trad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28F61-E2EE-48D6-ADBA-21142EDD7B0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9A92F3-C605-430A-80ED-04264832DC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entities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es a noun describe a resource or an entity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n entity, is the entity simple or compoun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 compound entity, what attributes describe i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9F083-F57A-4BE6-AF8E-F662EE94CAA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576D83-8BBE-4E2F-9B25-FC0DA3BBF6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 th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member that mechanics consist of relationships, events, processes, and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nk about your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udy your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lyze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for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B392C-1E85-4BE8-A9F2-AFEECEA1253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85368F-4318-4950-8F15-287134944B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pseudo-random numbers, a seed generates the sequence of random numbers produced by the algorith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uniform distribution, the chance of getting any number equals the chance of getting any other numb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metimes you want certain events to be rare and others to be common – for this us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on-uniform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tributions of random numb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5CA14-A5C4-4F44-8B3A-BFAE17E0E75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2BF21B-64A7-42B3-B71F-2F55C8830B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generate non-uniform random numbers, generate multiple uniform ones and add them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ing 3 six-sided dice produces non-uniform values between 3 and 18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10 and 11 are common, but 3 and 18 are very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ing nonuniform distribution creates a Gaussian cur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F5A5E-B67E-487B-847F-351EDE467F1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241C2C-1363-47BC-A413-F0040A8469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onte Carlo Simul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means of testing a complex mechanic to see how it performs in different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 your mechanic hundreds or thousands of times with different random values in the entities it works wi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alyze the results to see if the mechanic is performing the way you expe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ten you can do this in a spreadshe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94E34-C46E-452F-AECB-680690DB694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2C2036-A042-4FFE-BA18-C7D8713FAE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resources, entities, and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affect game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vert your early design into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generate 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use of Monte Carlo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37F5D-3AF6-4907-BFB0-D3DE829B3C3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69F327-3618-4435-8EDE-9AD29A478A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the core mechanics implement both challenges and player actions to manag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design the core mechanics of a game by writing specifications to document the entities and the functioning of the mechanic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random numbers in a game, and test with Monte Carlo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C5608-C814-45B7-9096-AF1AEE4C80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93CAA9-25BD-4642-A326-3779EEA2F6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consist of algorithms and data that precisely define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ation of mechanics varies as project goes through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does not experience core mechanics direc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ame engine is the part of the software that implements the game’s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85CB0-5C7C-49A9-81F3-DC59E7058D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92B266-DD2D-4C2D-9131-6355085B4B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s of the core mechanics in ope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 activ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pt player’s actions and determine their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ct victory, loss, and the termination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AI of  nonplayer character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witch the game from mode to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mit triggers to the storytelling eng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E61F5-37F0-486D-89B0-D78802143A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EAF1A3-8503-46C7-868C-0794EB2AAA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games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real-time game, many mechanics are processes that operate continuous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turn-based game, mechanics compute the effects of the player’s actions after each tu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level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should specify how challenges work in general but not which challenges each level will con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C32F1-5349-4DE9-845F-6DF4BEECC2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4E7AAB-655A-4D64-B578-FC22D23F33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resource is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yp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of object or material that can move or exchange within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ources are handled as numeric qua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define how resources are used or traded and how they enter and le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e: resources are not objects but types of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cils” are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pencil” or “these 3 pencils” ar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entiti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C3639-810E-40E0-87DD-02C33E5079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DD872A-C956-4916-AAC0-6C78F5A167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entity is an instance of a resource or the state of some element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simple entity is defined by one dat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.g. Points scored in a basketball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ompound entity is defined by multiple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character in a role-playing game has many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unique entity occurs when the game world contains only one entity of a specific 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football in a football game is a unique entity – there is only ever one in play. It is compound because it has several attributes: position, velocity, and sp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A3A5A-1BA2-4538-970D-B8455336124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39394B-2A97-420F-93EB-1BC14D16C1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chanics document how the game world and everything in it beha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es the relationships among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lobal mechanic operates throughout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ies the events and processes that take place among the resources and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ck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condi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at trigger events and process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61A6E-25D1-4685-AA2A-E1CDFBD64DF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0C6923-4B99-4045-84AC-BC01B1BDE8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8:33Z</dcterms:modified>
  <cp:revision>197</cp:revision>
  <dc:subject/>
  <dc:title>Fundamentals of Game Design, 2nd Edition - Ch 10</dc:title>
</cp:coreProperties>
</file>