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3768-C638-47D4-94B3-38ADA53E6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ing errors, tuning, and polishing are the same practices any professional uses when crafting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play is the heart of a fun game. The player is the so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E7506-DCC5-4F74-A5A3-C01FC445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4D5B0-86B4-4B99-AB02-DAD97528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69FDA-AEE1-4B85-8C7F-C3FCA332C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904B4-ED26-43FA-BBB1-907A5417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9B1A-D415-452E-90A5-EF8947CBD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9BC7-2CAC-40DE-8233-84493A3C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9F16-B633-4D0F-BABF-E63D1AE2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A11D-5003-4DE6-974F-B43B35F7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06C9-EF52-4AAE-8020-7D619894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5366-9F94-4FD6-A57C-FAA69A68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D3B5-8875-4896-ABD1-658216D9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A589D-F370-4E41-8F2B-3B1EE740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4F0E-69BD-4EAB-B730-0B3AA840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403B-58A8-419D-8160-14FA0C2D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ADE8-D29A-47A3-B675-38AE46DF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460E-385D-4ECA-B14D-E5FA1B36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B2D0-CC9E-4861-B591-30B3EA52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B40D8-ABDA-4C1B-A9BB-EC6F03DF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64D4D-6A00-4F0A-9DBA-348F0021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E32DF-7FA0-4A14-B91D-7491754C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C07D7-0D6A-4352-8B89-10B7DB21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A12B5-2DCB-4C29-9881-D1C6C720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BCD91-0008-4B34-BA3E-5A2124FD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4A26E-5BB4-4B00-9260-CAA3FB65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9 Game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1EDC-36F8-429A-B740-072BD92B337C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F4EE-454C-4E89-ABC4-16F30D155694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44F4-BA5F-42EF-B8BB-8A124BFE581C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9: Game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coordin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speed and reaction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ccuracy and prec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intuitive understanding of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timing and rhyth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make combination mo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 time available to increas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C1888-14AA-435C-9CE6-51B3AE41E49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CC68F1-634A-48DC-A005-D38BB32C4A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c and mathematic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al logic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outside knowledge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increase difficulty, increase the number of objects and the ways they can be manipula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normally get all the time they need to sol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puzzles that can only be solved by trial-and-err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hematical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s require players to reason about probabil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educated guesses with imperfect knowled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B62E7-0520-4A68-9C7B-A0739854B37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0480A4-286D-425C-BF32-F2F7AA704C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ces and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first to accomplish a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combined with other types of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 pressure increases stress o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ual knowledge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rect tests of factual knowledge usually occur only in trivia and quiz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ther kinds of games, all facts must be present in the game or you must make it clear in advance that outside knowledge is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A2AD0-79B1-4438-80C8-46F428C4C23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8D2A8C-B8C0-4950-B4D4-38E4D3C448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mory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all things seen or heard i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it easier, give players longer to memorize and test them soon after they have done s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ognize visible, audible, changing, or behavioral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increase difficulty, make the pattern longer, more intricate, or more subt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51A74-FBB4-4C49-90D7-50C425866FD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0D12C2-953D-47B6-AD84-76747F9D6E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atial awarenes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learn and navig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decrease difficulty, provide a m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obstacle that prevents the player from proceeding until he disabl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unmarked switches far from the do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0485B-2114-4F13-8FCA-346E7843F14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0E1C31-8EFB-48C2-9EED-20125F7177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ice that harms the avatar when trigge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n comes from outwitting the tr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zes and 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ry place looks alike and player must discover relationships between the are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implemented as logic or pattern-recognition puzzl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5DBD4-94C7-4944-A465-06779A9483D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562258-8E89-4D47-AA82-5738384811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sm that transports player to a new lo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make the challenge easier, make the teleporter predictable and revers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ing hidden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reasonable places player can deduce from clu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obscure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Easter eg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are special rewards in particularly obscure loc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EAD0F-FC60-4392-9546-BAB16F3FF36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D16865-0998-4896-9F88-8F274B7869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direct opposition of forces, some of which are under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 challenges can be broken down into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c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rvival and reduction of enemy fo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ding vulnerable items or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E4183-79CE-4BFE-AE47-54B0B59E14E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23247F-DBC2-45C7-AF7E-DEC60EBE8F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ehavior of resources creates 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mulating resourc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wealth, points, or anything valua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ing balanc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a more interesting challenge than simply accumulating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ring for living thin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hallenges the player to meet the needs of each individ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792FF-266E-42F4-8632-00336B78F05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A3860C-690A-490B-AB54-F54AB8FD23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ual reasoning and lateral thinking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reasoning puzzles require reasoning and knowledge to solve a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ral thinking uses extrinsic knowledge in unexpected w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E4B63-83DA-45AE-900C-46A13B0AB65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34791C-F8DC-4F4D-A235-D13071C5F6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basic principles that a designer should follow to make games fu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hierarchy of challenges requires players to complete atomic challenges, sub-missions, and missions to accomplish the ultimate goal of winning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quired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nd discuss how these factors contribute to the difficulty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C4BBE-17CD-4597-A083-6A826437444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362D06-5EEF-4B0D-9469-81487FFECC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fo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intended to mee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fer fewer actions than challenges to limit size of user interface and animation co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can address more than one type of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ased on player’s role and actions to overcom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0F7F2-ECB5-4E26-9540-D833D155B3B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835A9D-1B80-4C20-B986-EFC42224A6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that serve other fun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not related to challenges include actions for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structured 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ion and self-expres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ticipating in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ing the game soft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9C241-F3BB-46D9-9827-DCC4E0DC404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63D8D8-D9B2-4B9A-857F-C2C1EF5512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son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leave and return la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player recover from mistak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courage player to try alternate 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equences for immersion and storytell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rm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s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3EEF3-4D4E-4FA1-8E89-EE86124B7FC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1C7C7F-26AE-4A81-B378-595C2639F5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ays of saving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word to restart a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e to a file or save s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uick s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ic save and checkpoi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ways allow players some way to save and rel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C7E5F-B511-42CE-BCDE-75C9C2D4E45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34D8F5-84E1-4083-A660-934EB62375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the heart of a game’s 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can be organized into a hierarch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and stress determine absolut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ly used challenges test different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w actions can be used to overcome many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allowed to save and reloa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3F157-4943-4B8D-AD1C-D2A22EDDEC4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1FAA09-E5A9-4D2D-8AC9-A9F312C9DD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challenges commonly used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 in the context of the game world and describe how actions are selected to meet specific challenges or serve other function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arguments in favor of and opposed to supplying a saving mechanism and explain the most widely used method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39687-A417-481C-8A3E-09B587EBFB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A8C5CD-753B-4293-90F4-9C01B4C499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ecution matters more than innov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ief reason a game is not fun is that it contains elementary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pects of game development that contribute to fu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ing errors; basic craftsmanship is most import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ning and polishing is seco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Imaginative variations on the game’s premise is thir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True design innovation is only 5% of the source of fu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2A5DA-1610-4639-9372-5353C32DC9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EA27C4-A0C6-4D34-AD60-F85FFF80DB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nding the fun facto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mes fir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t a feature right or leave it ou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around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now your target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or automate parts of the game that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ren’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true to your 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ive for harmony, elegance, and beau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DF8E2-FF60-46A1-8744-23F7AE484BD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7C3876-ABA1-4606-88B2-C1F50CD6B4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y from lowest to high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omic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-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9FB98-CF71-4571-BD90-C73983B357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12149D-4582-44B0-BB49-553472F348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forming the player about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tell the player about explici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discover implicit challenges on their ow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icit instructions are given about the victory condition and lowest-level atomic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mediate-leve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st interesting games offer multiple ways to w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gnize and reward victory achieved no matt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h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achieves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83C4C-593B-4EF8-9BCC-CF9247DF27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AD512C-36FF-4466-940C-60B3181CC1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taneous at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coming several atomic challenges at the same time increases th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way of doing this is to bombard the player with enem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games (such as management games) present more complex interrelated simultaneou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re simultaneous atomic challenges a player faces under time pressure, the greater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t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96BD1-FBDF-45BF-9E6A-76E73AB21A4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CA74C7-DCBD-4CA2-A6A0-EA81EF0026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kill, Stress, and Absolute Difficulty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 required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skill needed to overcome a challenge in an unlimited amount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effect of time pressure on the player’s ability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skill required plus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8CECC-DE95-489E-88AA-C25957E5EFC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EA7114-F2A5-4736-9AB8-DF4913201A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7:59Z</dcterms:modified>
  <cp:revision>185</cp:revision>
  <dc:subject/>
  <dc:title>Fundamentals of Game Design, 2nd Edition - Ch 9</dc:title>
</cp:coreProperties>
</file>