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2FA9F-4C09-4CE6-8A5A-285153972B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87834-C3EC-4D83-A9BD-61B65E2F28AF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FA613-D75B-492D-8B6B-31EFC9E7EA87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52E8DE-D1F2-4A5B-966B-F546E0991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D5EF35-0238-40B4-872E-D141A1951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D866D4-3C9C-4A15-9119-AF4E0009E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5E9988-E2F9-41D6-8746-9ABE43A81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2D51E-24D6-4F2B-BECE-BF01E49C8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C4AD2-E221-4128-96AA-C2A5C19E0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E9412-7A21-4D7A-BC35-9DB81022F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3A293-2C93-4D17-83DA-DA38AC863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10775-DF26-4913-95CC-4939725EF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BC4C0-EFD6-4A1E-8ED7-9981BCC75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2389E-0BE3-4679-9C96-E91F620F5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D1E002-CADD-47B2-A5C6-B377A1C21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7DB79-2788-4AB4-838E-5A944A6B9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147D2-D234-4C7C-93CD-E7A7460C5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F2472-5B12-4B94-A1DF-FE855CBEF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417A4-1176-489B-8941-C93853C31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C8AD4-FA95-49D1-9FA0-05611A7F7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0A19F0-46CC-4EB8-80D8-8836E9C93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E6B033-567D-4948-8720-B0C16BF48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3D0BE7-FD92-48C4-84B0-1CBA93514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EF6A2-105B-4857-8C5A-494ED5959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5FC2C1-C787-425C-878D-A2C10B3A6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602593-FFA2-4B0E-AAD4-6B119A9F1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E9FCE4-853E-4404-A108-CAB8945FD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098880" y="6248520"/>
            <a:ext cx="3759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20  Artificial Life and Puzzle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2D908-9C16-4E49-BC14-69B8FA9A8B41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7200" y="6244920"/>
            <a:ext cx="26416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</a:t>
            </a:r>
            <a:r>
              <a:rPr b="0" lang="en-US" sz="1400" spc="-1" strike="noStrike">
                <a:solidFill>
                  <a:srgbClr val="6699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37BE9-4FD5-46EE-83E6-ADEE80C1C76B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E9022-C7CC-4A40-AEE0-9148EC4D2758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TextBox 12290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20: Artificial Life and Puzzle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od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racterist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is a god with limited powers who gets more power from simulated worshipp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mnipresent interaction model and an aerial perspectiv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y often share qualities with CMS (indirect control of population) and real-time strategy (compete directly against a rival god)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6B11B6-DE41-4D77-A075-16A156644DC6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8FE19B7-976B-44E3-AC94-C1B9409E8F8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od gam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economy of god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’s power (mana) grows with the number and prosperity of his worshipp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ize of the population influences the maximum amount of mana the player may have and the rate at which mana is restored when it is below maximu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ositive feedback can be limited in various ways: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eople do not reproduce instantaneously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Making land suitable for population growth costs mana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Mana cost of using higher-level powers rises exponentially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72345E-20E3-4DC4-A2F5-24796FB1EED1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2F5D76B-3AAF-473C-BF67-D93FA9E4CF1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od gam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play in god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rimary challenge is to produce population growt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e must also damage the other god’s worshippers and repair the damage the rival god does to the player’s peopl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design a god game, start with the question of what powers you would like the god to ha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god game needs a lot of interesting animations for the peop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01DC0E-ABC5-4E10-8D21-5F5190AA2A22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A1B2438-D6C4-40E9-848F-1EBE24C3BC2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etic A-lif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racterist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y are about managing a population over ti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tries to achieve goals for the whole popul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an’t concentrate too much on individual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ing a geno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enome defines the creatures’ inheritable characteristics such as eye color, hair color, height, etc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lleles are traits inherited from each paren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26240" indent="-31284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If parents have different traits, usually one wins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brown eye allele dominates blue eye allel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3ECE93-2580-4421-B38B-DF3A6605D096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9DBDB2E-024C-452B-B0F7-CB6FAF5DD28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etic A-life gam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t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hange to the gene caused by an environmental facto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utations may benefit the population by introducing random new values into the gene poo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ife span, maturity, and natural sele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ach creature needs a natural life spa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 evolve through natural selection, creatures must have a time of immaturity before they can reprodu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Genetic mutations that cause death in children do not get passed on because children do not reproduc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057DF5-1D7E-4B7D-8D6C-FBD20847DEE2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33A2630-EA7D-4055-8BC2-2D85BE9C40E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etic A-life gam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at does the player do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reate new individuals and add them to the population to see how their genes influence the popul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dd and remove environmental hazards that would weed out certain gen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 with the rate and nature of mutation by adding or modifying mutagenic objects or areas of the environmen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te individuals to select for particular characterist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A16202-D6EF-497F-9BA5-C8D91F4519B9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0F90694-64E7-4E1A-B45B-BBA306DF677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uzzle Gam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ist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puzzle games, puzzle solving is the primary activ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zzle games usually provide related challenges, variations on a the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types of puzzles offered include pattern recognition, logic, or understanding a proc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uzzles give the player clues that have to be solved to meet the victory condi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8088EA-4946-4974-8B0F-D1AFD8A00E2A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22EB9BB-880D-4FE0-BDB7-10D8CF4BC8C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uzzl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631960"/>
            <a:ext cx="4038480" cy="36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nd inspir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plif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 a construction se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e the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48320" y="2631960"/>
            <a:ext cx="4038480" cy="36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struct the puzz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s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vise a sequ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y attention to present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" y="159876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cott Kim’s eight steps in puzzle game design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9EA053-FFC7-431A-9D8F-C0C721C2497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2874BFF-3C1D-47EA-A27D-6227E52DE72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uzzl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hat computers bring to puzz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nable nonphysical or awkward mov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lude computation featu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nforce the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cord player moves and undo the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ucture the experi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a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bells and whist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nable online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2FAF7D-7996-4764-A432-15C7B9FDF142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C410E13-0199-477B-A964-DD0AE92722D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uzzl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ecking the victory condi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th to the solution might be different than you plann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eck the solution, not the way it was reach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BA3C1F-5541-40CC-BA3A-49929A4A1A3F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1E56142-3BD2-4E5B-8517-36FE89CD942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ifferent forms of artificial life games and simula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 basic artificial life system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steps to designing puzzl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player’s needs for puzzl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833217-D9BF-4382-9E75-749DFFB573A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1AD25ED-C42C-4151-93CD-295A7ED7CE8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n artificial life game and simul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basic artificial life syste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the steps to designing puzzl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explain the player’s needs for puzzl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51B898-6367-4605-8A0C-92ACCE04BBE7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E7119A6-684C-4075-8362-E1FED4016F9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tificial life is a branch of computer science researc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-life involves modeling biological process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-life is the study of emergent propertie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  <a:ea typeface="Arial"/>
              </a:rPr>
              <a:t>—unanticipated qualities or behaviors that arise out of the interactions of complex system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  <a:ea typeface="Arial"/>
              </a:rPr>
              <a:t>A-life games typically focus on maintaining and growing a manageable population of organism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A755E4-DBA8-4E6C-82AF-3F043CF922DC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546FEFE-BD6E-4E28-B3E2-4D48C10CA05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tificial pe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can be simulations or fantasy pe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most always cute; seldom reproduce or di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play concentrates on training, maintenance, and watching the creatu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t needs a lot of AI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Variety of triggers and behavio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how the pet's emotions through behavio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E42069-F5E5-4939-AA3E-81D69E4811B1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A6A2334-5C0C-4595-8136-3576B7534BA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tificial pet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influences pet's emotions through intera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t should interact meaningfully with other pe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t must be able to lear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ich AI distinguishes artificial pets from other A-lif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tificial pet is a software toy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 victory condi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9925DA-570E-46EF-98C0-80EE8C5675A1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0F6E9A8-5728-4631-808D-1FCDD30BADF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The Sim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controls the sims physically and indirectly affects their relationshi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ach sim has a personal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oss between an artificial pet and a CM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g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me has an econom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5EDE5D-3568-4695-8B80-8755B44EB82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8A1BC65-BF03-4C58-B10F-5008A631369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The Sim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ee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ach sim has six needs that must be met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eeds drive the sims' behavio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eed-based AI is the heart of most simple behavior simulati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kil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ims (in the first edition) have six skills they can improv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ims teach themselves skill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ime management is critica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0D95D5-3097-4DED-9E41-BE2EE42B485D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FCB6403-9216-4928-8560-6FEBE791790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The Sim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rsonali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ame tries to simulate relationships among individual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Variables define each sim's personality and how they react to each oth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uccess of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The Sim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is based on the unprecedented scope for creativity it offers and its emphasis on interpersonal relationshi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EFE603-D7EA-4586-A0EF-1F59E9C6DE33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3007E3B-D9A9-4C7F-A086-D79D50D3614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ing affinity between two character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“I Can’t Stand” Rule – A character cannot stand another character who has an attribute above a certain thresho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irds of a Feather” Rule – Characters with high levels of one attribute are attracted to others with a high level of the same attribu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pposite Attract” Rule – Characters with high levels of one attribute are attracted to others with a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low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lue for the same attribu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D9F48B-A602-4A08-9877-0CCDD01E090B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B13ED22-EA89-4E94-8E50-FC3EF9F90EB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12T13:24:51Z</dcterms:modified>
  <cp:revision>528</cp:revision>
  <dc:subject/>
  <dc:title>Fundamentals of Game Design, 2nd Edition - Ch 20</dc:title>
</cp:coreProperties>
</file>