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61DA-41C7-48F5-9918-C60C8782F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0700-9968-429C-9ADF-FFC0C8FAD9E1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808A-4ECF-4C3A-A5E7-AB065AC5BFCF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FFF3-D1E2-4853-A639-2124903E14E3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0A0B-CA23-4138-B3AB-854672D38800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1FF20-B4EB-4871-9964-4000E3AA0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5E599-F66D-4221-8F34-14A0252D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EAA47-B702-4839-AD48-4027C91F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8A571-FFE4-4D8C-9318-9E3079EDA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9CE6-6F18-4B12-8574-F365728FE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9B2C-18D3-43DC-AB84-52580390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2FCB-8D9C-474D-932C-D325718E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BB41-40CA-480E-BC07-24C1544A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BC74-BC9F-41B1-8A0E-F8B3B9D6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55B0-3BAA-4F5B-8265-88A92FB8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1616-A751-4297-951B-438F09CC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147CD-0763-4446-B2BB-843EE5CF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FD36-ACF1-46B1-AB8C-08561B4C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2CDE-C576-4E27-BF8C-65DB6FB7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6636-DD3E-4C11-B076-68005A38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D749-0037-4BDF-B491-9D2E14C9A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37EB-4C59-4528-8619-8F68E815F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BED10-1D40-4817-9D74-76A47797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EFBE5-F0FD-4E54-B3A8-6D603EA1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9C7F5-E7A0-4148-AF89-4DD7AE75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E49CF-0EFA-4C7D-910A-9B1E99E9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F69E7-E3E3-4225-867E-D01A865D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F9087-9490-4F4E-95A9-40C4D223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87A58-6730-4E29-B696-78B10793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9 Adventur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D0FC-2B84-4720-8D7A-781217603CD5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1F39-D1AA-49C0-B60E-2E506D31C39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751A-5746-42BC-812A-CF3547CD17B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9: Adventur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eeps the avatar 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mon in action-adventure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st games allow the player to move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AA9F8-9F6D-4CA8-B680-E72736D3FE1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028D4C-0498-4CDF-AE54-005A139A78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 of the player comes from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dventure games treat the story as a journe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relationship between locations in the world and parts of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became more linear in action-adven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A16F9-05D5-4F9E-AC13-204ACA2669E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A63265-A594-4B96-B281-2A9204C78C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rises from an unresolved situation or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dramatic tension, start by presenting the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resolution of dramatic tension occurs at the dramatic climax, usually near the end of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can have several different dramatic climaxes for intermediate problems until the final climax solves the final problem and ends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6D35D-AB48-4F86-8A52-523843FCEC9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64BBDB-0395-4C65-BD50-B2CCCAF1AA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heroic qu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majority of adventure games are heroic quests: a mission by an individual to accomplish a great fe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iggest climax should be the last major climax in the game because anything that follows seem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uld be periods of quiet to rest and he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A7DE4-8D1F-42C8-9BE9-EEC87BBC966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8CD876-323A-4FF6-869C-E60B290A52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roblem of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genres (RPGs, combat flight simulators) death is accepted and players know what is likely to cause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dventure games it is less cle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adventure games adopt a fair warning approach, making it clear when something is dangerous and usually offering a way to neutralize the da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n autosave feature to save the game at intervals so the player can restore it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20F70-F459-4447-B7F0-431B00C5A1B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7A0B61-CAFF-41C3-908A-EAAD4150E7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Shape 26630"/>
          <p:cNvSpPr/>
          <p:nvPr/>
        </p:nvSpPr>
        <p:spPr>
          <a:xfrm>
            <a:off x="45720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nding keys to locked door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guring out mysterious machin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taining inaccessible object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ipulating people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avigating maz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Shape 26631"/>
          <p:cNvSpPr/>
          <p:nvPr/>
        </p:nvSpPr>
        <p:spPr>
          <a:xfrm>
            <a:off x="464832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coding cryptic messag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lving memorization puzzl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llecting thing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oing detective work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nderstanding social problem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Rectangle 26632"/>
          <p:cNvSpPr/>
          <p:nvPr/>
        </p:nvSpPr>
        <p:spPr>
          <a:xfrm>
            <a:off x="457200" y="1600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hallenges are conceptual: puzzles that can only be solved by lateral thinking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include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02009-5A3A-41A4-A31A-2623D3D18B1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0DACFB-7C35-48B7-888E-64EBDA8FAE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sations with nonplayer characters (NPC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 NPC’s conversation is defined by the NPC’s role, such as blacksmith or tra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games try to sidestep the problem of conversation by setting games in underpopulate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ripted conversations became stand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F220A-B234-4E0E-832D-BF2CAD94AD8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5AA173-56F6-4A7D-A5D5-977A2ECBF4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p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ics provide cues to location and how that location relates to other areas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pp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p fills in as the player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see the map at any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compass as well if appropri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tomatic journal keeping is comm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F5D29-9905-457D-9484-502CF425384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BCB2FE-5100-42F7-9B39-6C90C2E674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ew things to avo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solvable only by trial and err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requiring outside knowled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-the-right-pixel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backward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FedEx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82BF3-4390-4A2F-BC91-6A82BEB6E52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0F7B80-D227-423C-AFA3-2EB98BCEB3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mov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ment interface depends on the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perspective uses point-and-click or direct control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int-and-click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 contro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yer steers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both walk and run 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0A3DC-32E6-4C9A-8EE1-93FB3D7543F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0C13B5-529E-42C4-A8E3-69D8A1F188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n adventure game and the common game features of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character and story in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t interaction models and perspectives common to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puzzles and inventory in designing an adventur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76507-02CE-4EB4-B2D3-50A27A695AC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0B00F6-DC38-423F-A453-45C3A88E1E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ying activ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nt and cli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ynamical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cus-of-attention highlight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B788D-109E-467E-A215-C42D79821AB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211EAE-0EDB-431F-8E45-CBC6EAC7CA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button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troller button or mouse click correctly manipulates the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u-driven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nu gives player the available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right-click an object to see a pop-up menu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B9226-1200-4371-809E-D33E2230702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6B6F94-F69B-4C08-BA1B-DA66E11EE4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ing inven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games limit the amount that can be carri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isible inventory mechanism like a backpack or box is comm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inventory management eas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and close inventory with a single click or shortcut ke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D42F3-B31C-4288-B4D1-A5281CF99E1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3C4D08-F5F7-4CF7-B7D4-E155C581AC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importance of character and story in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t interaction models and perspectives common to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puzzles and inventory in designing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724A2-3A86-428B-B036-71D96F6CECC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3CADE3-FF2A-418A-91E2-679D55A400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dventur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ve story about a protagoni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and exploration are essentia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 and conceptual challenges form the majority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bat, economic management, and action challenges are reduced or nonexis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0BE8A-E470-4980-8BE7-EDE288754B9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B51288-0ED0-4F4B-87B7-6E386CF977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al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dven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was a text-onl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o give the player a credible illusion of freedo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hat spoke to players like a person rather than a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B771F-094D-435D-819B-DB2809CD3FF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4A948C-1E10-4399-B6A7-C3904B68A8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rowth of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popular in the early days of personal compu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ving no graphics made games inexpensive to develop and allowed scope for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ers added graphics when the technology became avail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8CD39-7EE3-4171-B419-AF3E136A2D6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1CD4EC-20FD-4637-A0CC-DEFBA11BC8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enture games tod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rket for adventure games has grown less steadily than the market for other 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ment of 3D hardware improved graphics in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-adventure games develo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s hybrid is now more popular than action or adventu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ive solutions improves replay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never 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FFEF3-C7DB-435A-8D39-E98BC1DCA49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9FDAC1-5BBF-46CC-87F3-6A7DE2792A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 and emotional ton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ting contributes more to the entertainment value of an adventure game than settings in any other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move slowly, which gives designers the chance to create a world with a distinct emotional t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93F1A-6BAA-49FD-8EEF-3063EA8D761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775898-EAE8-4301-A15E-046409FE87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ways uses an avatar-based interaction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rly games used nonspecific avatar, but now avatar possesses his own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approach is tradition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 and first-person games are becoming increasingly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E88CD-D38B-4939-B7B4-BB5BC13A802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35E202-44A4-4C6D-B210-07710720F7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 is shown from the camera angle most appropriate for her current location in the gam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s the designer play cinematographer, using camera angles, composition, and lighting to enhance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ourages a more action-oriented approach to play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ewer opportunities for visual dram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6ECB7-C83D-4334-837D-EEDCFBE993A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0BA216-6AB7-4010-A7A0-E528B61969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9:40:29Z</dcterms:modified>
  <cp:revision>423</cp:revision>
  <dc:subject/>
  <dc:title>Fundamentals of Game Design, 2nd Edition - Ch 19</dc:title>
</cp:coreProperties>
</file>