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28DFB-379F-429F-A9D0-5605EF86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C9C2C-F954-49C7-A644-BE1504F9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1E13B-B444-46E6-B2BD-5BE636EA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451B2-D4A1-4095-A82F-CA613379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060D-05C3-47AC-8CDB-97BEBE52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633E-717B-4930-8458-BF613C47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E37F-7BB2-47FC-98CC-20399BBA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1E4F-ECB0-42B3-91C7-53A85067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B22C-A78E-4CBE-8E27-F8881057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F45A-2AF6-4DAD-B57A-30A36C15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6215-714C-4092-A1A3-F832450C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FC1E5-F881-43A3-929D-3D87CC8B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DEAC-CA63-41D7-BDF5-82936B7C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EECC-A5D4-4462-B853-23EBCDC4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2750-96F8-4A56-9156-FC8903CE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1048-6A95-40A9-A039-ECAF10B01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7576-9216-467D-BB80-7B9A0CE5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FA6A5-8284-456B-975E-6F262043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B6B3E-7A29-431F-8359-453C94F5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3BE2D-ABFF-4799-BA62-B3448CC0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7F2FB-405C-4C40-B78C-A2F65FCE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2C9A4-16E7-40C6-940B-0336ACD2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10B03-EE88-4CF9-B0D9-79CC176F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72F3B-9073-45F3-B65F-7B305092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5 Role-Playing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E68E-9F49-424E-A062-8B2917A6622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C7B7-A50B-4639-A485-588068E47FB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F824-2FF1-404F-859B-FC9D1D61143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5: Role-Playing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and comba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tions include setting a destination, designating an NPC to attack, and using special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vers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u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s dialog tr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d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y and sell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vento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ge carrie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4C62A-2C7E-4A6B-9D95-2D563004775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06B0BD-08C7-47C2-9B4C-82E4E19217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olling di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k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w the probabilities to get the result you w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termine general abilities and qualities; change infrequent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x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cla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, mental, moral, and social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69C22-35B8-4D0E-BBCA-EBC6E9F42F5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FBD3A9-E412-47F4-8C1E-4D52AE8DAD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, experience,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ributes that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points and character level  measure the character’s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smetic attributes add richness to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64DE0-1573-45E1-BD5A-28B0F1507DF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5148EC-534E-4BDE-A32E-232B05F3CC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gic and its equival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 that allows characters to influence the world by means not available to us in real lif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ience fiction implements magic as “advanced technology”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of magic restricted by character cla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magic, how it’s invoked, how it’s 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often spend magic points,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n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ana system is more convenient and flexible than the D&amp;D “memorization” syst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79132-879A-478D-AF9C-CB606B43B6A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D5BD8D-6917-4FCA-8AE5-0D1DF72CDB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kills and special capabi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taining new skills for a character is similar to upgrading a unit in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trees provide a growth path similar to a tech tree in wa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RPGs allow the player to create the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l dice to generate points to distribute among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79B31-C896-4B4C-9F9B-20549CA3F20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694FC7-9D01-4A04-8D84-BD2A7DB91F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nd to be fantasy and science fiction sett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appealing to explo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RPGs provide an editor to enable players to create scripted adventure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50680-66F3-47E8-936D-64D53DD4849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1810A5-E2AB-4CEE-B8A7-E4FF2A3C11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, determine the game’s overall ques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, design the episodes that the player experiences from the beginning to the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e an enticing ope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23AE7-1D99-418C-9512-A650CD09613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C78740-8F0A-4F4F-ABC5-AFCD9D8003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 in single-player CRP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-based is becoming more common, howe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 in multiplaye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person or third person for avatar-based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allows player to see all members of the party at once as well as surrounding ter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03048-7817-41DE-9015-CAA8B63D1AA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8981BF-EC01-4B13-995D-CA7D635431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de range of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terface can be complex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de the mechanics to aid the player’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ve task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nstead of making the player try repeatedly, automate the repetition and sho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progress b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character has low skill at the task, it will take a long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the player to interrupt and abandon the attemp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3DD05-E46E-4468-9441-8819950087D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BAEA5F-6B63-4A5B-A805-C1D9083813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role-playing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evelopment of the role-playing game from tabletop to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a world and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xperience points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gameplay modes for 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A9B5E-B896-49E6-B039-457D7962B8E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C055F9-CB38-44C9-9576-CC9B4B811F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role-playing games and the game mechanics common to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history and evolution of role-playing games from tabletop to comput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character attributes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F142C-D166-44DC-B863-646D50477AA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1F892A-F63B-4548-9AE0-AD52C2A1B5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world and setting suitable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use of experience points and character level for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gameplay modes within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0308E-AB0C-4238-81D5-0EC60C3FE4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FE7246-FA30-4DEC-9A83-FED5C87285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jective is to experience a series of adventures in an imaginary world, through an avatar or a small group of characters whose skills and powers grow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sential parts are the quest or story and character growt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ctory consists of completing th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just enjoy exploring and interacting, even without trying to w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64050-BC6A-4A4B-BD78-459A5B5B20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987EAC-708D-47F0-8AE8-9E58EAE337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types of challeng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gistics (managing supplie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grow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sol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7BDCD-17C4-41AB-86F5-4DA7ED576D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E17DEE-623D-4CEC-8E16-C6661EA4AA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war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include combat governed by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ll group of characters who exhibit growth; no factories to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r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ge group of identical units; factories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68ABB-7BAD-4A8D-83DA-7B79F620D3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67EAC6-D749-4CA5-A356-4C0BB7991D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 becoming more common in hybri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such as buying and selling as well as conversations with other charac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zzles more sophisticated than in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are rar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0F985-60C5-4837-B0EF-D56B3CA44D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FE041D-8659-442A-BBB1-A122A4A30E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br>
              <a:rPr sz="4200"/>
            </a:b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have rich storylines, highly detailed characters, and 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-defined character; characters defined by numeric attributes that improve over time; complex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tar provided by the game; concentrate on a single character; puzzle challenges; no numeric attributes; personal growth; simple internal economy (or none at all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09B2B-9FF7-4FAC-9E86-764EC311A20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2D1B7D-0501-4881-997E-7E417DB469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and combat make up a big part of most CRP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ing the world is an overused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find an alternativ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ng quest broken into epis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 challenge at the end of each epis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tional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1E3CA-031A-41DE-BFB6-90A59073B47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D621E5-DEE9-491B-B482-939BA285AE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9:38:35Z</dcterms:modified>
  <cp:revision>280</cp:revision>
  <dc:subject/>
  <dc:title>Fundamentals of Game Design, 2nd Edition - Ch 15</dc:title>
</cp:coreProperties>
</file>