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ECB92-2FC7-4C93-9F3F-34959C0213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vatar can be a mix of the two types. Some characteristics are known, but the details are not fully fleshed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C082B-37F8-490B-8500-8A676E79B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889DB-4BA1-4B96-94F4-DE7EC868E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F6A85-BC16-482E-B724-25343A1D4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9E333-2BA8-4EE3-8739-4B3E5DF77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E2BD3-EA2A-4C0F-927D-82606D837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4549E-86F0-46E7-AA6A-9FB20C1EF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022CD-F64C-49F1-8644-8F8BCB4A6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BAA32-A411-47FD-8EE5-7B7F3648F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139F8-C77A-4A50-BE4A-332589B8F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FF727-2F80-4621-9F34-664BDB3B6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673F7-4E27-418F-A042-DDBF342E3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0E56E-333D-474F-AAC0-63A49AC04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3ABA5-C530-4B86-AD69-2CC51E970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9F886-5396-4640-B8C2-0B37AF85B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8F0B1-C270-4D38-B4D6-B82F6F0A3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07772-71A4-49A4-8ACC-217A8EC10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F6EC8-42C0-4D3B-B62B-DF00FE813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06696-DBEC-40D7-B168-974675B46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6F6A2-7DC6-4136-9D56-CB5E06E4B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99A8D-7349-462A-B5F4-FC1BC64B6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38A6C-D449-4D41-933C-9B09E769D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67F89-A0EA-4935-A682-A999A515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0785A-45DE-4530-BD76-CA53776A1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75993-5BD5-4BA4-B817-DE16B2FC7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07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6  Character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ED919-A75E-4478-8A0E-82DD809BAC30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CE4C3-32F8-4F29-8329-755C4FBDDE5B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5778A-8BE7-4320-A097-3214FE55451F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6: Character Development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168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Your Avatar Character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ow do you want the player to relate to the avatar?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lect the control metho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lect the appearance and personality (unless the player designs the avatar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details create more independ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lect qualities the player will find appeal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D30D8-2645-4AA8-AAA8-F2BD944D81B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48B699C-EB95-4E06-9606-D06CBCDF283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Appearances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-driven 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st method for simple characters who don’t change during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-driven 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st method for complex characters or characters who change during the gam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0A330-4CC5-4260-AD6D-D70A5D1B63A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852733A-7F12-4558-8556-656929CCB11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Physical Typ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s fall into three general categori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umanoi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hysical features like a human’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nhumanoi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haped like vehicles or machines, animals, or mons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ybri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beings such as mermaids or human/machine combin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-driven characters are usually stereotyp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common character stereotypes are cool, tough, cute, and goof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F651D-6650-4F79-A2DB-8BE3852D9F1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E2FA94A-61A0-42E4-83FC-34FAD07E79F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Physical Typ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ypersexualization is exaggerating sexual attributes of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hypersexualized characters because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are cliché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appeal only to a puerile audi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may turn off part of your target audienc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1C16D-92A0-4BC1-A75F-F6E2E611E60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C6A577C-78A4-4A74-B2B0-CFD44A5F487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Clothing, Weapons, Symbolic Objects, and Name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cessories reveal personal sty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ice of weapons can also be revea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ransferring an object can symbolically transfer a power or rewar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ames can reveal a character’s personality or ethnic backgrou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you overuse this technique it will feel cartoon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73C8F-7FE9-4F71-96C6-538C9D164FC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91359F5-5215-4299-992F-DBD6216AB41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lor Palette and Sidekick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a signature color for the main charact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e a color palette to reflect character’s attitudes and emotional tempera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dekicks offer several benefit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allow you to give the player additional moves and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extend the emotional ra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can be used to give the player information he wouldn’t get any other w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0E015-DCD0-4F22-BC02-5BCC85BB4C7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C265295-A230-47C9-85D2-046B9608D7D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reating Character Depth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can convey a lot about a character through appearance, but not everyth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you begin character design with the character’s role, personality, and behavior, you are doing story-driven 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decide these things first and then let artists develop a visual appeara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AF067-7B28-4358-9144-B29CED7D466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FA74A66-7C7C-47DD-A3FA-A40C8382BA7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Role, Attitude, and Valu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very character in a game plays a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design characters, you have to envision them and answer many questions about the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a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backgrounder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, or character background paper, for major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ow character personality through appearance, language, and behavio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27AC4-4029-4210-9401-C3BF6675C4E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DD5A587-138A-4139-AB91-C2EBC100F12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ttribut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ttributes are the data values that show a character’s location, health, property, etc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ttributes can be divided into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us attributes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that change frequent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Characterization attributes that change infrequent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Attributes a character needs depend on the genre and nature of the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1DD47-9F85-4682-808B-20A65D0C866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747B245-73F2-4E70-BC27-E0015B9D2FC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Dimensionali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s can be classified into four group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Zero-dimensional characters display only discrete emotional sta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-dimensional characters have only a single variable to characterize a changing attitu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wo-dimensional characters are described by multiple variables that express their impulses, but those impulses don’t confli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ree-dimensional characters have multiple emotional states that can produce confli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1A4DF-5628-433F-B6EA-A74F679E853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69631D0-ECC6-4C0B-B3B2-2D984B1E97E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basic goals of character design in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the difference between a </a:t>
            </a:r>
            <a:br>
              <a:rPr sz="3000"/>
            </a:b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-defined avatar and a specific or nonspecific avata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issues involved in making non-gender-specific charact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B2E04-52E5-4D60-820F-ADC2B98A82A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299B0FE-DB2B-4811-AED7-CC160E6C797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Growth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that aspires to be more than a simple adventure must include character grow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build character growth into a game, decide which characters will grow and h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often use physical growth because it is easy to show and impl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ow personality growth through changes in language and behavi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F5BEB-E8E1-4D23-9781-6010594E8C0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DF48C5E-5DA6-45C3-AF04-932E772B4C6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Archetyp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y stories that follow the Hero’s Journey pattern include archetypal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s fundamental to storytell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und in stories from all cul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y be fundamental to the human psych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d the works of Joseph Campbell and Carl Jung for more ide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implement them slavishl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63F4F-8D8A-4E2A-92F2-5788F334E20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23FD6E2-E988-43DF-A59F-FE1EFA1CCB9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udio Desig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ounds reveal the charact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nd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ical the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ocabula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ammar and sentence construc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live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ocal quir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0604E-8685-4694-B025-7777E8CA85D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411F8D3-1553-487F-A205-23751674C1E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istinguish among a player-defined, specific, and nonspecific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make non-gender-specific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visual and behavioral attributes to create a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rt-driven or story-driven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sound to define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0ABE4-CDD1-4D5C-AEFC-688F224939F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2398999-BDCB-4036-BFAC-FA81FF76E66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visual and behavioral attributes used to help create characters in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the techniques of either art-driven or </a:t>
            </a:r>
            <a:br>
              <a:rPr sz="3000"/>
            </a:b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-driven character design to create your own game charact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8756D-5D96-432A-8993-93E03A2F915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75CEE26-6AAE-494A-A5CA-67B2737E033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oals of Character Design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s in many genres structure gameplay around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s should be distinctive and credib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ultimate goal of character design is to create characters th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ople find appeal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ople can believe 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can identify wi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4AFAA-EB54-4428-8572-92B8AFBED49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4B42938-62CB-4FC6-A4EF-431395B10C1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The Relationship Between Player and Avatar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lationship varies from game to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ors that affect the relationship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d the player design the avatar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the avatar visible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is the avatar controlled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A8CC0-ABDC-42EB-BA21-AFE34F0514D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BA3D950-A4B5-4C37-93A7-D8DB9E78A1A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Player-Designed Avatar Character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reates the physical attribu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reates the persona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6571D-C8AD-4A98-9E4A-B8FAF911E49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2199924-3AC9-434D-A790-55AB851033D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pecific and Nonspecific Avatars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nspecific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is assumed to “be” the player, so appearance, personality, etc., are undefin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ry limiting to the design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in early text-based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ecific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tailed characters with histories and personaliti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in games with graphics and strong storyli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C615B-2C75-4DEE-A006-045795C2EBC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6C2594A-A216-4248-8128-DFA204B63A9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The Effects of Different Control Mechanism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direct contro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licks where the avatar should g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s a guide to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rect contro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steers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i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A7D4B-C131-4E8A-9F96-3780402CD78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62D5B81-FA1D-4C3A-9A06-AC9AE20B49C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Male and Female Players and Character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le players do not identify strongly with their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n tend to treat avatars as puppets and often use default avatar without customiz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omen identify with their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omen tend to treat avatars as extensions of themselves and an opportunity for self-expres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make a game more attractive to women, allow them to customiz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A3AE4-0C79-413E-8F0A-2C71519A058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6BD9A41-4330-4509-9AA4-7E8335C4F51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6:10Z</dcterms:modified>
  <cp:revision>152</cp:revision>
  <dc:subject/>
  <dc:title>Fundamentals of Game Design, 2nd Edition - Ch 6</dc:title>
</cp:coreProperties>
</file>