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62D96-9289-4F92-8D2B-D22AAA0584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of anomalous time: I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me Par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visitors to the park appear to stay there for months according to the game clo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details create a rich game world. However, the player can’t micromanage everything. Make sure that the player’s role doesn’t become bogged down in managing unimportant detai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A6655-7B81-45FE-A979-F5CD3C13E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DA658-CFA6-4E36-888D-9406F0F24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C31B5-3727-43BB-9974-46B148924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A0966-7F51-44E7-B3D3-58F38FEE6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BA1B0-2906-4E26-99D9-F6212BBCA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E7F91-49F1-47F9-8586-FA711D633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D83B3-DB71-4FD3-AA1E-919674A75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0BAF2-0DCC-4AFB-B43C-066A87072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6615F-F076-4752-B420-4304E2124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236C8-7CC0-474A-9F6F-94961AAF5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5A514-3DB6-4335-BF45-19864F01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842A2-ED0E-43BD-836A-0E04D5A30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AA9A9-3AA0-46F2-87E3-E33C170D2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C205A-E021-4211-AC5F-F004212F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D1649-138E-4730-AC9A-45DFEB30A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71FCF-A64A-43B2-9788-82F3E4249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8164B-E345-4422-AB24-32EE624B6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D181A-2C9B-44F3-8D06-1D8E26362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0F782-2B13-4449-A13B-75D344E78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C4353-5D7F-4C09-90CF-7A262C61F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487B2-0839-41D1-AE66-E1AE82A6A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B341E-FAAE-4853-BB1D-C489D1D8E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97440-332B-43F8-9EDC-24525192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393F6-5084-429B-A720-3BCD1DBBF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7080" y="6248520"/>
            <a:ext cx="3308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4  Game Worl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57ECB-D467-460B-BB0B-B446229CE924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37DA7-E17E-4581-AD44-0EF57E3C7B7D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92E01-D291-46AF-BC8D-E2246F457701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4: Game World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empor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s the way that time is treated in the game world and how it differs from time in the real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iable ti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me time usually runs faster than real time, and jumps or changes r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omalous ti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e can move at different speeds simultaneously in different parts of the gam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some games, the player can adjust the speed of time in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2A686-253B-4D83-8A7F-DC5252FB5D4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9418E72-456F-4188-B56D-A5428221DC7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vironment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s the world’s appearance and its atmosphe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ms the basis for creating art and audio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cludes cultural context and physical surrounding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3134D-DE5A-4C25-A954-BD6A558177C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247227C-83FE-4E3C-A243-C3D124B12FB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vironmental Dimension (Cont.)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ultural contex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liefs, attitudes, values, political and religious institutions, and social organization of people in the game world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fluences every manmade item in th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r interface and backstory should harmonize with the cul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AE695-054D-4DAC-8A22-B2D2F997A67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DC48882-DA93-4EFE-9312-AA576252A9F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vironmental Dimension (Cont.)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al surrounding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every manmade object, natural object, and sound in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the tone and mo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y to make surroundings uniqu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clude as much detail as possible until it hurts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yle includes both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nt of the world itself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hat content is presented to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2F705-4144-48EB-8B38-11D38344E15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AA767D3-D952-431B-8EAF-1270C5D6C77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motion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s created in the play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s can be caused in several way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acing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eracting with the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re sophisticated games move beyond “fun” to richer emo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“paint-by-numbers” emotional con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7E04B-A60B-4842-A4C5-29786806F36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B7D0487-1370-488C-BC4C-B7AD840B2B8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thic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s right and wrong in the game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rt of the culture and history in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uild richer, more involving games by giving players tough moral choices to mak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violence for its own sake; give it a purpose and contex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game world ethics are unrealistic, make visuals unrealistic also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178C6-A4AF-4AC9-8FF9-762B05B818C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362FE63-4FEE-42B6-AF0F-9DA1516FE90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Realism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 games, no matter how realistic, require some simplific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gree of realism of any aspect of a game can be found on a continuum from highly representational to highly abstra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of realism differs in individual game component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have realistic physics but cartoon graphics, or vice vers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45FF6-DC4B-4C40-8458-3EF3D5E99D8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A835E33-2D0F-4652-8562-14D6B2F503D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ing the purpose of a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ing the physical dim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ing the passage of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ing the environ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ing emotions in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termining ethics in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ing levels of real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04824-3425-49F2-A291-BC90B69AD46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E8C4D77-3EEB-4A50-8E6E-9F8E497EE34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various dimensions of a game world and understand how they affect the player’s experience of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 physical model for your game world, including its dimensionality, scale, and what happens at the boundari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the relationship between game time and real time and decide how time will behave in your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434B7-4983-48CB-A8E1-E748D12E132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DC92221-5034-4F69-A5D7-79427F5414D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the culture and environment of a game world, set the level of detail, and define a visual and auditory sty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some of the techniques for influencing the player’s emotion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AF6A6-C436-4EB3-9A92-055B7A01F34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D24CF84-019A-40DC-9A3C-663220C3EC1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aware of how the ethics of a game world can differ from the ethics of the real world and the implications for public acceptance of your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multidimensional nature of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realism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as it applies to games and how it affects the player’s expectations about the experience the game will give h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9F561-14F8-48D6-8AC7-F83AB818A5D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4A73585-2A23-4EAA-A267-7F5364F403A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Game World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maginary place in which the events of the game occu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esented by images and sound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t all games have a game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world can have a culture, an aesthetic, a set of moral values, and other dimens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E0B75-CE5D-40C6-9CC3-328C5E2C178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2A73339-D2A1-4BD7-8E4F-ED6396685DB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urposes of a Game World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ntertai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and sustain intere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ll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FA55F-8FFA-40CF-A57E-D5FE364194D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7D69E82-CF79-459A-B088-4AC788500B0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imensions of a Game World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mpor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nvironment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thic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D61E1-AF19-474F-B95C-E78930FCC7E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0F1B6C5-994E-4311-A854-E107F48112C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hysic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ed physical sp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ized by dimensionality, scale, and boundari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3262F-FBEA-4217-9DE7-3A4243E6886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27CD31B-A988-44E8-BE00-11A400EF7DC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hysical Dimension (Cont.)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atial dimensiona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2D, 2.5D, 3D, 4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is now standard on PC and conso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ca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olute size of the space and relative size of objects and peo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ffected by choice of camera mod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ounda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stablish a credible “edge of the world”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E8D62-3DBF-4D93-801C-07C027EBEED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84F52AE-76E9-486E-8424-9357BA2C9DA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5:02Z</dcterms:modified>
  <cp:revision>133</cp:revision>
  <dc:subject/>
  <dc:title>Fundamentals of Game Design, 2nd Edition - Ch 4</dc:title>
</cp:coreProperties>
</file>