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D4AC7-589E-4CB8-9AFB-58E5F1B19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6165D-D696-40C4-883E-6EF6EA239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DA753-B899-4F99-801A-B5AED6DF3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A2CC0-2DF1-4947-8764-CB3809F9A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B0249-3391-498C-AC74-49B29D4AD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B5D63-8959-4A74-8FF3-4F0668387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0C364-6359-4168-AB00-66DEB3562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32AFC-8FF5-4F74-95E8-B3D9E2EC5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9C503-469C-4D9B-A647-6E6D3F580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2CA33-5ABE-461B-85FB-9BBE91A1C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FD1F1-806C-4FB9-B08F-EAA65442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34C3C-00F3-4A68-8DC1-74C9BAC36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31C35-7454-4E90-92D1-D35B1ED6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08A5C-38A0-4A5B-81B6-D051D1EA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78DF7-553F-41AD-8151-3467B0A84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CF6D9-9D32-4710-AA52-A55AE6AA3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0D016-F3E7-4E0B-8C6F-4EE6E1BF3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AAC91-456A-475F-936C-CED7D1F3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A112B-DCE9-4848-8639-436F4DA82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EB82A-90D0-4208-9DC1-6240118EF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F9DC8-682F-4A99-B689-52F2BF1CE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FA3D4-5529-4AE4-AFF7-99983D6C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0BF1B-3C0A-41A3-B236-FE7B7504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FCB06-6F7F-45D8-9656-F8F4F61B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5 Role-Playing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0C31A-C786-4DC1-A8BC-DC1A75835EE1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EC254-32F6-44CF-A590-19338BA746E5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878C2-81BF-47E1-880A-5738AC080324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5: Role-Playing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 and comba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tions include setting a destination, designating an NPC to attack, and using special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vers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u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s dialog tre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d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uy and sell i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ventor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m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age carrie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8560F-34BD-41D2-858F-FCDEA7172F2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5AC4497-EF16-4B5B-8C27-42BF835C8B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olling dic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k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w the probabilities to get the result you wa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zation attribut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termine general abilities and qualities; change infrequent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x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racter cla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, mental, moral, and social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97128-B626-4FC8-90E6-D3A982A6961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5AEE2FC-3B7C-44CA-BE0B-47201ED9FB6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attribut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, experience, and character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tributes that change frequ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erience points and character level  measure the character’s grow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smetic attributes add richness to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D7E23-A183-4584-BF58-F1311F87012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C2948FB-6605-406C-8AE2-6DF8E613192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gic and its equival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 that allows characters to influence the world by means not available to us in real lif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ience fiction implements magic as “advanced technology”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of magic restricted by character cla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magic, how it’s invoked, how it’s limi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 often spend magic points, called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an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ana system is more convenient and flexible than the D&amp;D “memorization” syst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5B8A6-2015-421A-81F0-CF62BA3CD27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DE22B42-0C8B-4AC4-8898-4A7C170BF5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kills and special capabilit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btaining new skills for a character is similar to upgrading a unit in a strateg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 trees provide a growth path similar to a tech tree in war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RPGs allow the player to create the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l dice to generate points to distribute among character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F8431-ED7F-49E3-8B13-0CA6B64D084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17A01CF-8CF4-4DDF-8BA5-54275D678B2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and Sto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nd to be fantasy and science fiction sett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be appealing to explo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CRPGs provide an editor to enable players to create scripted adventures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C963C-CD23-45A4-81D1-2D60FD9F2B3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C0ADEA2-77C2-42C0-9B94-7ED6CF0E9FB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and Story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, determine the game’s overall ques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n, design the episodes that the player experiences from the beginning to the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d sid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rite an enticing ope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45804-2F86-4225-860E-2D4FDE8ED1D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1553F2A-937E-49D5-A2B0-BF42D82C925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rty-based in single-player CRP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atar-based is becoming more common, howe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-based in multiplayer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person or third person for avatar-based mod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 allows player to see all members of the party at once as well as surrounding terr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472D5-D439-487D-B14E-93B6955B0FC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5843732-BBE5-4CAA-AA00-BB767E836B4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ide range of ac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terface can be complex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de the mechanics to aid the player’s immer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petitive task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nstead of making the player try repeatedly, automate the repetition and show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progress b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character has low skill at the task, it will take a long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the player to interrupt and abandon the attemp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2A00B-52E1-48A6-B7E2-48FBAC5C98A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0A0D381-3B6F-4197-B6FC-1F48F5A900F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role-playing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evelopment of the role-playing game from tabletop to compu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character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a world and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experience points and character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gameplay modes for RP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84EE7-A106-4ABE-B224-0C9D44F4A0C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4E35F5F-36D1-4A2A-952F-9115BFFA525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role-playing games and the game mechanics common to the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history and evolution of role-playing games from tabletop to comput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character attributes for a role-playing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6F35A-17B9-4085-A0E3-D6BBFB27550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897C058-F2AC-42A9-B6FE-467137DF296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world and setting suitable for a role-playing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use of experience points and character level for this gen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t gameplay modes within this gen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F99BD-3541-4643-AA9D-7C5415A75D0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2805BBE-0B52-4630-895F-B8CB6E86E62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Role-Playing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ver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bjective is to experience a series of adventures in an imaginary world, through an avatar or a small group of characters whose skills and powers grow over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sential parts are the quest or story and character growth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ctory consists of completing th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players just enjoy exploring and interacting, even without trying to wi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13BEA-6410-4386-A487-D385492A8E0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C3FEAAB-F39C-4F90-8C34-D4BBADF8AC8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Role-Playing Games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y types of challeng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ctical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gistics (managing supplie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conomic grow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solv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EA853-5151-4F36-8E03-489198E7ABB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326EA41-B4AA-4800-B8AE-759AD19DB5E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war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th include combat governed by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ll group of characters who exhibit growth; no factories to produce more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r gam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l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ge group of identical units; factories produce more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D0757-98E2-4B9C-9B39-693342EE0F9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D11F169-9B5A-450E-9B2C-8AA66FD62D2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ac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challenges becoming more common in hybri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n–action-related activities such as buying and selling as well as conversations with other charac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uzzles more sophisticated than in action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n–action-related activities are rar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7A00C-712D-4AAA-8F4D-D54943BC382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93F14B0-7808-4299-BFAC-79A27C9BFF0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</a:t>
            </a:r>
            <a:br>
              <a:rPr sz="4200"/>
            </a:b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th have rich storylines, highly detailed characters, and exploration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yer-defined character; characters defined by numeric attributes that improve over time; complex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venture gam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tar provided by the game; concentrate on a single character; puzzle challenges; no numeric attributes; personal growth; simple internal economy (or none at all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2C09A-75DA-460D-AD92-A5886C68384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70103B0-C19F-45DF-806F-B0C3AE66C71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and combat make up a big part of most CRP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ving the world is an overused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find an alternative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ng quest broken into epis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 challenge at the end of each epis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tional sid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1C895-4F61-4815-995E-1A02900AB7F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EA59FB7-3E80-4103-AE9B-704D7127BE1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9:38:35Z</dcterms:modified>
  <cp:revision>280</cp:revision>
  <dc:subject/>
  <dc:title>Fundamentals of Game Design, 2nd Edition - Ch 15</dc:title>
</cp:coreProperties>
</file>