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A821-20F7-42FB-B752-AF9707081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deo game will not respond to player actions that it has not been programmed to recogn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players compete, there is often a winner and a lo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, the behavior simulations are very simple. The goal of AI research is to create ever more realistic sim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imC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players learn how to attract a larger population and meet their ne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ultiplayer games have a communication method built into the software. However, players often use communication software such a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eamSpea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entril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s and puzzles can be used to play ga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 that can be made while playing are limited by the r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1DB98-E585-4306-A1B4-596B0102A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23DA1-3F41-4B25-BEA3-35C28F3D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F7A01-34B9-4A05-9A0B-8AC1934BC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96CD5-FE87-47B9-942E-42C3D3E7A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6B8B-0E1C-4615-ADCB-F43987CE5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A574-F3F0-4C25-8554-70EF923C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F859-EB93-4344-B152-4DE55E6D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D4507-41A1-4AB9-870E-F4ED8045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33E8-E2A8-4092-B51F-F667EA13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8E80-E3C9-4FDB-86DE-46428A23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8D53-3B63-4DB1-A1C8-C07C1030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775DF-0EAC-4B73-97AD-31D0BF45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4F80-DE0D-4614-AF71-2034BBE2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C8B73-3A15-441E-8C70-10942D8A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E4BC-C0B5-455B-8C81-4761E805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24B9-A41E-4218-8B6C-57BA417F8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0764-8E51-4C4F-BBEB-B7EBD6F49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2E960-F50E-40BA-9A20-57152AA7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04083-9C0F-4B00-BFF5-B60A294A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977AE-778D-43CF-B399-39822937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5ADC0-3366-4A55-9B09-4702D480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E4E92-5C1A-48EE-9DD4-9CAF9C15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DCBC3-6DA3-456B-96C8-2EAAB10F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0C84B-75BA-4013-9660-7910E9E1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  Games and Video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A3F0-6008-43B8-ABFC-0B0BC631B6CB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ED73-1B85-4A0F-A5AD-8FE36D766D5E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9745-6102-4106-9576-A3E2C18A0AD9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: Games and Video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must overcome a nontrivial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require mental or physical eff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hallenge can be composed of several smaller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can be required to reach the goal or optional to add gam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9DAFB-761A-4FC4-A25F-E4FAF417520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86B443-2C2C-4B7D-BF3C-478CB8EB18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rules determine what actions are available to the player(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fferent actions may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mitted by the rules, o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d by the rules, 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hibited by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permit only actions that are programmed into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602B5-6DFE-420F-8589-0EBB7ED5E4E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ADF609-785E-4F60-8D09-9E0E0CA38B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therefore consists of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allenges that a player must face to arrive at the object of the game, a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actions that the player is permitted to take to address those challenges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plu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possible actions that are enjoy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1143E-F124-4736-A54A-1D577DE3499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76D11D-1C1F-4509-AD0C-33004842C2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airn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expect that the rules will guarantee that the game is fai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irness is not an essential element of a game, but a quality of go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often change rules of a game if they perceive it as un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irness is particularly important in video games because video games seldom allow rule cha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A9797-7F0B-4BC4-98B1-FE54BD96922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FDF37CA-7269-4F27-A03D-349ED99BC4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ymmetry and Asymmet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symmetric game, all players use the same rules to accomplish the same 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n asymmetric game, different players follow different rules to accomplish different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760F5-6940-47A1-9F90-09EB194813F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723181-540D-4AA0-B138-F20DDCB67A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etition and Cooper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mpete, they try to accomplish mutually exclusi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operate, they work together to accomplish goals that are the same or simil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 are ways to build cooperation and competition int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713A4-1099-4927-946C-A2589832CE7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6ADBC7-1EA1-4509-A627-25D4615960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Hiding the Ru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do not require written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enforces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’t chang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adequate clues for players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ing trial and error to overcome a challenge frustrates many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FF60D-A027-419B-A7D5-A3134F56EFA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CB362E3-D417-4128-921D-681E729E78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tting the Pa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software determines the speed of the events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can’t affect the speed of the game unless the software has to wait for player inp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mputer allows for modulation of the pace, so players can rest between periods of intense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7C463-EECE-41A3-ADB8-A997C6C12F9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D5ACA1-1D0E-497F-B742-6AD770E3DB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resenting a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present a game world, video games can u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i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xt and subti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77D6E-1D3E-4C28-981B-4FA65174A97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756FF6-23C8-433E-8E34-B3AC4734DB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Intellige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day, artificial intelligence is used f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fi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ng the behavior of people and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rtificial intelligence advances, games will add more uses for i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par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gene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tern recogn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C50D6-EAAA-4FE7-869B-98A0F8F7E6B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199B25-A895-4B0C-8502-659C7D97D2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essential elements of a game—rules, goals, play, and pretending—and what they do in the context of playing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formal definition of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nature of challenges and actions, as well as the formal definition of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0D7ED-DAEC-4257-AC60-DB24C732D88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6D25B1-A6BA-4680-B3C7-9B2513CE3D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esthet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 elements should be high in quality and present a harmonious look and fe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look includes the quality and appearance of the graphics, movie clips, animation, buttons, and fo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eel includes the music, dialog, user interface, and objecti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armony is the feeling that all game elements are part of a coherent wh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B352B-B721-4520-AD90-97E69B8513B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476D3B-C60B-4611-95AA-4675DA8E43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games incorporate some kind of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mix storylike and gamelike entertainment almost seamless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make player feel he is inside a story and affecting flow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is one reason why video games are considered a new medi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7F0B0-496D-44F1-9C41-2CEBF9D7CB1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3546AE-CFCA-413C-8276-1B97DEE346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isks and Rewar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isk is created by uncertain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the player overcomes the risk, a reward should be give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size of the reward should match the size of the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71D87-19C4-4662-97AD-C363C40757B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4E4603-71B1-4CFF-9289-8002082F06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velty and Learn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offer more variety and content than any traditional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velty alone is not enough to sustain player interest, howev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enjoy learning when it takes place in an enjoyable context or provides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should supply both enjoyable context and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081C5-99E2-4908-8520-1E75E1ACB62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9E0E17-206B-4494-82B8-0CB08ED00F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and Express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love to select, design, and customiz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s activity can have a direct effect o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video games reach a wider audience, creative and expressive play become increasingly import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DA162-3B5A-4791-96FD-41B0691464D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BA7A86-114D-4005-9AFD-4DF9497A94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mmer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ed players lose track of the real world outside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ion can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sense of being “in the groov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bserving, calculating,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feeling of being inside a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7D3CA-5E2C-4097-B6C8-EB6DA58713B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DA51A2-7911-45F8-979F-B553C3F0B7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ocializ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traditional games are played with other people, making it a social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ral methods allow people to play video games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layer loc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tworked play (multiplayer distributed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N pa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96005-9355-4580-A66D-B2C57934460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D4F10B-8E74-4BE9-9B1B-C3324D3317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lements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interaction of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ole of the computer in video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rious ways that games enter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73AE3-EEB8-4084-A110-687932E393E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838794-5157-4812-9E25-432574B3D7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concepts of symmetry and asymmetry, fairness, and competition and cooper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arn the various benefits that computers bring to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ways in which video games entertain peopl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E17E0-F2E8-4B9F-A268-E3042C84E0F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3E24F3-4164-4359-8265-916506BD8E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ys do not have rules or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s ha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have rules and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CC1CB-121A-422B-B927-69DA6B2FB25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8A854FB-F79B-4B22-9CC6-2B8605E82E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must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tended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ontrivial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2E0DD-2060-44BA-8454-9474C9830B7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F2FA57-EEF4-4021-8DA5-A217CBA61B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requires particip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ing different choices while playing the game a second time affects the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tend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s an artificial reality known a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importance is assigned to events within the 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leave the magic circle, stop play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BEBB6-73A9-4622-895D-1B52CAF548A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253BF1-E64A-41EA-B946-3728F8D346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ery game must have a nontrivial goal or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ules defin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designer sets the rules, thus defining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overcome one or more challenges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achiev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oal is often a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v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ctory condition, but victory or defeat is not required in all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57403-AC85-47CE-93E3-21732CE36D7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52EFA2-91EB-44DC-9131-C4A5FB6882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are definitions and instructions that players accept for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define the actions the players may select that will help them achieve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designers must make the rules understandable to the playe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C28A8-C4C0-439F-BD89-38E955C9EA3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365242-85C8-41B2-B736-D24DB19D98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ings That a Game Is No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does not have to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tertai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se are qualities of some games, but not essential to the defin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rious games are not necessarily made for entertainment or fu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0CA5A-0A73-4EAF-B351-B8F8C41016F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81B834-6C5D-481D-8CFA-CD70946646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3:54Z</dcterms:modified>
  <cp:revision>96</cp:revision>
  <dc:subject/>
  <dc:title>Fundamentals of Game Design, 2nd Edition - Ch 1</dc:title>
</cp:coreProperties>
</file>