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A066-D832-415A-95D4-2A3145C64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4F89-E74D-4746-A443-A4035415E92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5E95-A1CA-454B-AFBC-8908AE3B5ED5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654D-4278-41A0-B0A8-FB85C25A586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BC3F3-B3B4-49B9-AD25-9A0D8FA5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F287B-A1E7-41FD-9F9E-8007858C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A3F06-60A8-4261-A061-31B70099B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A993E-486B-4DCB-BCD9-501D10B77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E779-FFDD-4AC7-B847-C9B7CA71C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C8BC-F59A-4126-B7A9-2479EDAF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E74D-420A-40F3-BF83-707AD2E6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3C8C-A6A5-4E00-8EE8-C04319F5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3EB1-D96A-40B9-A68A-196A4534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917E-FCA1-4186-BED9-C58BB2DD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5310-49BE-4652-9FB7-30577D6C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9FBAD-ADE1-4926-88A8-5AE91AA4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3877-A4E5-40D5-9715-9799095F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D5BE-04EE-41C5-8C1C-E83DAC2A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C293-2580-4BFF-B051-5E39B1C6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DAB0-15EC-46CA-818B-B7C5EEB61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D348-5D01-41B2-9FA1-1391E9351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3167E-362B-4FD5-99FB-E531BD36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A9FF2-E9FC-4004-83EC-C1BF49F4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78E2A-93E1-416A-B2D6-907755EE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5BCAF-A7A7-4DE6-9149-2C627ACD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CCEC9-DCFF-460E-A287-73A98B5B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AFF06-43B1-4687-92E2-7577329D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62CA3-046F-4946-9093-381432CE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7 Vehicle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49B7-5285-4B34-9A65-2E2A815F966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6ADD-7404-4D5F-9F20-385E780D074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034F-475F-4238-A68A-DC89DB50F69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7: Vehicle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ehicle simulations are technologically oriented, so the core mechanics are almost entirely about phys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oppon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different vehicles with different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the behavior of individual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A9ECD-EAFE-4C5F-B535-9532828F5C5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6867DC-77CA-4E99-950B-E4E3457CA2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m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ildren’s games can ignore damage to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amage can be modeled as a single variable like health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modeling divides the vehicle into ar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s damage in each individual are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utes damage’s effect on vehicle perform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C03D8-3234-4B21-864B-D68367EE0A5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B336B7-FA64-497A-A28F-D7402C8174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br>
              <a:rPr sz="4200"/>
            </a:b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ndscape is an important part of the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—setting is the plane and the 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—racetrack, road, or off-r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 affects vehicle hand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ider adding people to racetracks and airports to enhance immer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1A6D2-32BA-463C-B3A3-A959D1CCDC4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629ED1-DEA8-4406-98CC-3AB072531D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ats and ship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uid medium changes handling characteristics, making it different from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warships simulated as parts of fle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marines are popular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iling simulations are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cean is not modeled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reline is usually corr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pth, tides, currents, reefs are n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AB3B9-B478-44C4-AFC3-91E08123F89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078881-0A6A-4064-BF76-3BF9BBD207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anks and mech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tating turret on tanks adds complex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 is an invented mechanism unrestricted by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craf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spacecraft simulations are science fi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modeled accurately—similar to fighter pla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0D9B8-997D-4D7D-B63F-642A52E2EEF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1D06DC-BC14-491F-B4FB-7F70A54F4C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llectual Property Righ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ly, you can simulate military equipment without obtaining permission from the manufactur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simulate an existing car or other civilian vehicle, you need a license from the manufactur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1A329-FABF-4AE7-B764-A64DA8D5EBD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9472A6-8781-4485-87F6-0E0EFC6FDB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—vehicle is the avatar; view through cockpit wind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common to driving and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’s/driver’s view—defaul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ckpit-remove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s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ar, side, and front view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5E7E8-2B67-4352-8710-393136B383D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6A8D6B-00DA-472C-890D-2F153E7DF1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military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ound target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omb or missil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-sid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andstan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limp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AA9AC-C512-4DE5-ACE9-844B2697055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815B0B-C029-4354-8C99-356C7019D6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ggest challenge is mapping vehicle’s real controls to those available on target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simulators require some simplifi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ight simulators commonly simplify navig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light simulators produce automatically coordinated fl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1CF44-207C-4E36-93A8-3090038E5E8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318791-4C8E-42B0-8B62-6EF857BE24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sense of speed—critical in driving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play a speedo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y the driving surf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roadside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soun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-fo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planes can show a G-force 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s can black out or red ou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082EA-A5FA-4B34-9717-CD6CB588FE0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D36355-6088-4CF7-95E8-7CE64A7D3F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ifferent types of vehicle simula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how the design of the game world influences the player’s perception of sp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ways to design artificial opponents for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1516F-74DA-48DB-BAD2-0BC56F7C262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05C228-2366-427E-804C-846F69F955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different types of vehicle simula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vehicle attributes and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I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st the requirements for a military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the UI for a vehicle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80F18-361D-4EF9-AF10-E293A56F69C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C75F5D-665D-4BB6-A524-4A992C7E79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stinctions between military and civilian flight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various views often used in vehicle simulation interfa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882F6-C70B-4054-9AC7-854C54B062F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4140AC-CFD9-4FF3-9061-CDBBEB7439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Vehicle Simulation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ls like driving, flying, or controlling a vehic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ons vary from realistically handling the vehicle to adding game mechanics such as combat, racing, and speci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 and water vehicle simulations follow the same fundamental features as flying and driving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961CA-6976-4BA4-947C-5FF64201D8F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E8FD37-2ABC-49FB-8340-CDE13D530D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 are realistic and don’t include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re simplified but provide tactical conflict as well as physical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is driving in an existing racing class; requires licen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aginary racing uses imaginary situ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FBF2B-702A-420C-952A-6ADAEDDE98B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53E6F8-B611-4F95-9E7C-57F47A777C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ists demand highly accurate simulations of real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players don’t care about the details as long as they can fly or dr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36575-B231-46D1-BB42-0E73020E878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21987C-3999-4A3C-ACB6-AA64F65DB4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lot or military positions such as navigator or bombard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cing-oriented driving games—driver or mechan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E6030-4E36-463C-9BA4-3BC3443A46C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0C74F8-9BAC-4374-909E-B3E4781AF7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—similar to first-person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—single-player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iving simulators—single-player games or multiplayer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nd organized race-driving simulators—often include career mode and campaign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D6AAA-3CA7-4ED4-A142-5AB21BB111C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2E2C6A-BD25-4455-BD5A-46DB261FD9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challenge is controlling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s must also achieve the mission obj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ype of plane determines game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a series of miss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s seldom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sims take gameplay from the real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6E2F7-BCE6-4C52-B41C-7CE981E5B49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903B1A-835D-4759-8934-4E280EA689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51:43Z</dcterms:modified>
  <cp:revision>383</cp:revision>
  <dc:subject/>
  <dc:title>Fundamentals of Game Design, 2nd Edition - Ch 17</dc:title>
</cp:coreProperties>
</file>