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B736-4321-4D6F-BFB1-701F2E281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on sequitur is something that does not follow log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similitude means having the appearance of truth. Sports games must be reali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FB98D-14E6-4FF6-AD69-DED9B115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51C38-1E0D-421F-B394-09D28D12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8E69F-922F-45F3-9DE5-AE6F2A00F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4DF3D-DF39-44E4-8C49-F2F4FCD8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4955-33B0-4D72-A668-07E71E921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4DD2-5622-41BB-849B-ACBF3308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6BFC-2A78-40B4-97AB-2149C23B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0B38-4E05-4F26-B6F9-B4726650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8E20-8543-4AEB-8929-F28AC088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32AC-7815-402D-9E8B-94262161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9754-01E6-4F38-96FF-02CA37B7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D7A8D-E79C-45DE-A121-C0910185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E119-5C0E-495B-BE52-EAF836EB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1AE7-562A-4A4F-9616-2F83D921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C553-62B4-4259-94D7-46F73314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5C12-B048-4105-82F6-9FF53113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E2FDE-C1CC-4509-AA82-FAFD54339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62DBA-8A29-40A2-BC39-3FD0495F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A2C14-035A-4FD6-A732-6F3B2444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83109-D37E-4A88-9380-8ECD93BE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C6D54-C5CE-4B0B-988A-647E4188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82AB2-ABA0-45FB-9616-AC0BF065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E1350-46B8-4CFD-95EB-19C77CDE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31520-F7F8-4E05-B3CB-503F02BF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37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2 General Principles of Level Desig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A8A0-CE2E-4199-BA99-D0D882F8EB11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0062-6216-4A20-ADA3-0F3DD78BEBF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936B-1F51-4484-A99A-2476C4A2BE92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2: General Principles of Level Design</a:t>
            </a: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allel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odern variant of linear layou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ariety of paths can go through th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n reflect a foldback story structur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ing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ath returns to its starting poin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val tracks or twisting road-racing tracks are rin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for rac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49520" y="4191120"/>
            <a:ext cx="1457280" cy="2158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913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9B0D8-4546-42E0-91D0-793062EE9CDD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7821EA-BC1A-4ABF-9E1E-4AA653ED01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twork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paces connect to other spaces in different way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ive the player freedom to take any path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ories must be able to tolerate player experiencing events in any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b-and-spoke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ntral hub is usually a safe zon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rovides some choice of where to g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k off some areas to control sequence a litt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4419720"/>
            <a:ext cx="1905120" cy="1857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638680" y="4343400"/>
            <a:ext cx="2286000" cy="1901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D4C4E-B681-484F-B34D-06E65D113D55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B793DA-AE41-471B-BAA1-A7283E4DCC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ations of layou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bines aspects of several layout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-playing games and adventure games often use combinatio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68760" y="3429000"/>
            <a:ext cx="3605040" cy="267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22368-4A4A-4436-BD98-ACA28A9A77A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2FBE5F-36A2-423A-BB00-DADD046F4C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 assembles components to create the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gh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 palet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nd atmospheric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visual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bient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audio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301B5-A7EF-4D44-8BDF-EF41B23E328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BA91F2-8FB4-4276-BB54-54D6833B78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 refers to change o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esigning progression, consider these facto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505320"/>
            <a:ext cx="3886200" cy="23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c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durat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cillary rewards and environmental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actical gameplay reward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3505320"/>
            <a:ext cx="38862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fficulty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ons available to the player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ory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growth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76A93-44B2-4917-9DE6-D5B1F7E3DEB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20F600-5338-4CD0-9DF0-5B5F2C39EA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cing refers to the frequency of individu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nre affects pac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deathmatch shooters use the fast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use the slow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with fast and slow peri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all pacing should remain steady or become more rapid near the end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933E9-A4B5-4E94-9B5B-61C0124B4E0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338B15-A527-48DA-9BEC-CBCD714170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utorial levels teach the player how to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what scripted experience that explains the game’s user interface, challenges, and ac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oduce features in an orderly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witch off features not yet introduc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game is complex, use more than one tutorial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ight screen elements when you introduce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 player go back and try things again conveni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iceover narration or text can expla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rule: Make tutorial levels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op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58958-7433-417D-9774-151054221A3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918BBF-F2D6-43EA-BA8B-EDAF7FBF5B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to level design handoff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st features in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rough overview map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pha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level in detai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sequence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cument the gameplay, art, performance, and code requir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606DA-E49D-4A2B-A49F-E613F74A82B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58CDFA-468D-478C-94AD-3E65A8972F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toty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emporary models of the landscape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s serve as blueprints for the art tea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the proto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edback from the design, art, programming, audio, and testing tea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00B41-E42B-4C16-8416-6128F307191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DE0327-9DBA-4BE3-917D-74D781C977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finement and lock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corrections based on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and correct until the level is flawl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 to art handof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all files to the arti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l artists how the level should look and 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act the audio team for any needed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7DFE4-9F93-4A4D-9AC8-556114665F0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B66AE1-857E-42A8-AD7F-74846CE149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level design can enhance or undermine a game’s story and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 between universal and 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possible level layouts and understand when to use each and how to combine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FD320-A2ED-437A-9FF1-AA789536683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C9ABCB-C117-4686-A50D-6C1FEB76D4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 art and rigging pa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 team builds the real artwork and rigg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might need to incorporate the new content into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 to level design handoff and review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 final art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duct a re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D05B7-C70C-4485-B737-C1F475B4C62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922288-C1C9-4B85-B96E-4B61AF1A9D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nt integ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semble all the assets into the complet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just any rigging as necess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g fix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for bugs and mistakes and hand off to Q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testing and tun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A creates a test plan and begins alph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oroughly alpha tested, hand off to bet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B2DB1-85C0-46F4-A3EF-17520937970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35E4B8-8E10-46A0-A16A-751C108CB6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t the scope righ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within your available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common to design something that’s too bi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events in a game make it harder to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rewarded, not punished, for using their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CC3A8-B249-4FBD-A44C-9AACE18257F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DF3473-C789-4B41-AA2E-AC60160560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typical levels optiona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break the player’s suspension of disbelie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could prevent some players from complet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n’t show the player everything at o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w features gradu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ain the player’s inter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5011C-4789-45B5-BA45-4D3B6A5DA89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A3FA34-477C-429A-8694-8BE4970E9A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ver lose sight of your aud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-centric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derstand your target audience and deliver what they w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d the “Bad Game Designer, No Twinkie” articles for more examples of design err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ww.designersnotebook.com/Design_Resources/</a:t>
            </a:r>
            <a:br>
              <a:rPr sz="2600"/>
            </a:b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_Twinkie_Databa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82ACF-F82B-47BF-A65A-0C0571BC451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BB3AB3-D3DF-492C-BDD1-2D1876356C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pply key design princip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variety of layo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tmosphere, set a pace, and build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lete the level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common pitfalls of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D5D71-FAF5-4B16-BFFE-F4E478D45BB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161743-CA6E-496E-9999-EE9FEB5AD3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atmosphere, pacing, and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aspects of the level design proc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some of the pitfalls of level design, such as inappropriate scope an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70568-1DA9-403F-BBE7-BC545FB4EC8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68E7A8-E9DE-413C-9A4A-A9B87B2CF0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Level Design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403848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pace in which the game takes pla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itial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t of challenges within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0" y="34290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ermination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terplay between gameplay and stor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esthetics and mood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: constructing the experience for the player using components from the game designer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s create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1DCC0-8D4F-4D05-AADB-3EEC46056DD6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F162B2-344D-462C-95CA-73103509AA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the early levels of a game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e player surmounts a challenge that consumes his resources, provide more resourc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early inform the player of his short-term go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8EEC3-2C5E-4913-86C9-780D3DF08A6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ED5EB9-3A5E-4E81-8C3C-F5122EE30E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lear about risks, rewards, and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the player for skill, imagination, intelligence, and dedic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in a large way, punish in a small w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nd more resources (polygons, memory, CPU time) on the foreground than on the backg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rpose of an artificial opponent is to put up a good fight and then lo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multiple difficulty setting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70966-D902-46D7-A3D2-8F30F47C30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3737B1-6676-41E9-8F96-E7412E96D5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y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-playing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opportunities for character growth and player self-express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risimilitude is vit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hicle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skillful maneuver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A4F97-5B6A-49EC-A4E9-23B648FA19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4A4DA7-89DD-4A0F-BF2E-811471A825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 and management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an interesting variety of initial conditions and goa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struct challenges that harmonize with their locations and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lif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te many interaction opportunities for the creatures in their environmen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ve the player time to think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8D436-700C-40E1-B574-5EEE7F9A05F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3A0AA0-22FF-4AFB-95A9-3804B43AB5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ow unconstrained move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rrespond to the outdoo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in war games and role-play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near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quire player to move in a fixed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 move only to next or previous are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raditionally in side-scrolling action games and 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4398840"/>
            <a:ext cx="2361960" cy="1928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AA8EB-7F5C-4ED6-B592-C67ADA93582F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4CDB20-8059-4D2D-B442-EC3312DB11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45Z</dcterms:modified>
  <cp:revision>242</cp:revision>
  <dc:subject/>
  <dc:title>Fundamentals of Game Design, 2nd Edition - Ch 12</dc:title>
</cp:coreProperties>
</file>