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6C0B0-962C-49BD-97D8-4847CE8B04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F0CEF-93CD-4108-B549-ED1774CD8EB4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gle-value variabl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rack a character’s degree of happiness or unhappiness and a set of needs that the simulated character desires to fulfi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hap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9065E-EC51-423F-999D-DDCCB1C3E876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7FB40-58D4-439F-89B8-A2B92BC4693A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61D05-0663-443E-8421-AD192AD3DFBB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847919-A3EB-4706-BF0A-C55F3CBB1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C8CB24-623B-40AD-9C6D-79C0D1B13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5B8216-0F1B-4B67-8A4B-B0975EA8D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3F9A04-23F8-464C-8BC2-17C15EF9D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32D47-E41D-4CA5-8BC3-123761F87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F45A9-0FC7-4AA9-9AA4-F17BEEAD6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B8634-1F07-472F-9F8E-177C654DB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70C01-928B-4137-94FC-26D22402E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74F6E-3AE4-4C45-9C19-087F79F61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2936C-A360-440E-83E8-B18411581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AE183-C685-4CD1-B933-D0A5A450A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089C01-2423-41C0-8F68-348741279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81357-3DDA-479B-A1CA-CE4639486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8AAE9-BEED-4E16-A439-3BC3C6C5C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ECB5F-9624-45E0-A7DA-607FE4F3F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E9466-9C93-44E9-BDC4-E558376BB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FBCD1-1A5E-44C5-BB8E-A434F6055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4E539E-C0DE-4F02-898A-424AD43EC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4758CD-9F20-48EB-BD95-420D9851F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7AFDE5-5FEA-49FE-9418-C658FB2A6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90793-6FD1-41BD-BB23-689D6DDBC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37B5A4-C3E2-4DDC-93BF-6AB6CBEF7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8B8B5A-F4B2-4B22-B532-8C03D1614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D6B773-C278-408F-B45C-39592DB3E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3984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8 Construction and Management Simul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8A307-D3D3-4C56-8C2F-DE3B6E0A31AF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7EDC2-D78A-4F17-A1CA-43BBB605ECF6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0BEB3-172B-4C37-8DEB-FF6425D5FC15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TextBox 12290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8: Construction and Management Simulation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petition mode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  <a:ea typeface="Arial"/>
              </a:rPr>
              <a:t>—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gle-player unless it’s a hybri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mulating individual charact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me CMSs model behavior statistically for the whole group and do not simulate individua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deling individuals is more difficul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reate a behavioral model for the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reate a variable to track their happines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ase happiness on player’s skill at meeting their need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atistics can be computed from all the individual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83A4E6-1B61-4AEE-8295-401635BFDE34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7B6FEC6-7768-4F69-BBBC-26A85F7CC89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ind reading enables the player to see an individual’s needs and fulfillment statu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dviso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 alerts about local proble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tify the player of general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t a threshold level at which the advisor will appe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layers to turn off the advisor to add to challe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92952F-0F4D-4DAF-A013-2149F4AEC28D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569FE03-C083-410E-8B09-AEDFC88CF95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ure business simula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construct financial fortunes, not visible obj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lleng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d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vise an economy and mechanisms for manipulating i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al challenge is to make the subject visually interest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oid runaway profits by controlling when and how a player can buy and sel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3A7D8D-BC2D-42B0-BEFC-AE4EC6A2D465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96DDB9F-B269-40EB-886E-54141AA8B56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ybrid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ffer economic, exploration, and conflict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 the economic aspects before adding other elem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ther elements usually depend on the econom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 mistake in the economy can ruin other parts of the ga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2696FF-5889-4A1A-83F6-E2243E11064C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3788894-0988-440C-8BF2-27A195C0ED2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sour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imary resour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Usually m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ney and peopl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uilding materia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angible entities in plan-and-build mechan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tangible or not a resource in purchase-and-place mechan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ADC47E-8125-4686-80D1-A916AAD4481B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7CAA4BA-6BD8-40BE-A94F-565D2517531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construction converter changes labor, money, and materials into buildin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rains and maintenan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rain permanently removes a resour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cay is the usual drai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intenance can be automat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asters force players to ac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3FC813-93C8-460F-8693-7812C95F1A18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EC82245-AA2A-44F7-9A1E-1D86720D63B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tt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ulated physical space, usually outdo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erial perspec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ften set in 2D or 2.5D worl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ure business simulations might not require a physical sett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9BE84E-CAAC-4DCE-BA01-5AD71B802D3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C587195-40A6-4014-80C6-2CCFC467CA1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on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is usually multipres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alkthrough mode allows players to see the world in first-person perspec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sometric perspective is comm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3D environments allow players to zoom in and out, see a broad overview, or focus on a local proble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AE7BEA-8BB7-4789-9C10-4019A6836B5E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2BE8F97-7290-45AB-96E2-398D1BADB00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terface can be more like standard computer softwa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splay important scalar variab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raph can show values over ti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ector variables describe related data, such as the amount of water available in different loca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8E22D0-9B5E-439E-A2AC-D67F2A580852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5BFB7AA-A93C-44C3-A6FC-C4724598EDC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 construction and management simulation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the differences between plan-and-build and purchase-and-place gameplay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the basic gameplay modes and artificial behaviors common to this gen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57CB75-CE27-4C9E-8ED1-05C3FAAF5CA5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EA20F3B-533E-4C4E-A42A-A9A0A6949C6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efinition of a construction and management simul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ifferences between plan-and-build and purchase-and-place gameplay mechan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basic gameplay modes and artificial behaviors common to this gen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5DFA73-8677-42D2-8C80-0AC80BE5A56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F977671-1083-4557-BC4B-57F0CF28356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the issues facing a designer for user interface for this gen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the core mechanics of economies, construction, and manage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CFAA8C-5E89-4708-A939-5D744957B5C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1EFB937-5487-4332-853A-6F3D3449DAE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issues facing a designer for user interface for this gen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core mechanics of economies, construction, and managem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02D9E9-232D-4C67-9211-23242A9C3AAE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00AB71D-9FA0-455E-A1B0-A683E6EEA24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What Are Construction and Management Simulations?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majority of challenges are economic, concerned with growt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struction activity is an essential element of any CM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attern recognition and exploration challenges may also be pres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MSs avoid physical challenges, as well as conflict challenges, unless they are hybrids with another gen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6A9EEF-8596-4A89-84AB-BD0DD51F1063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5E814AD-9028-4475-865E-D026E5DEFDC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player’s ro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t’s not easy to define the player’s role because that role seldom corresponds to an actual activity in real lif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desire to create is in the heart of a CMS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2B8DCE-5C1B-4C88-926E-125CAA45D54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B736864-19C8-4C1F-AA85-75BD6B1FA3F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gres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 levels or s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ny begin with an empty space for players to start in from scratch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ften have no victory condition, only lo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n also offer different scenarios for player to t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cenarios are partially built when player starts the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cenarios may have victory conditions as well as loss conditi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17715B-4DF0-4222-AF27-4F8E9C1440F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23BBB1C-CA63-4CC0-BF26-D50D37CC48E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jority of CMSs are games of indirect contro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 game simulates a process that the player can alter only in limited way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owever, some actions, such as changing prices, use direct contro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stru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most CMSs, actual act of construction is not a challeng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hallenge is in obtaining resources needed for construc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A466F4-BC73-466D-937C-ED019C91966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B96DD20-34D8-4BDC-B21B-23D0FBD2CA7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play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rchase-and-place construction mechanis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buys an object and places i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It is immediately ready for us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can build objects quick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sources used immediate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n-and-build construction mechanis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alternates between building and manag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plans where to build, the computer then build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Object not ready for use until construction is complet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builds objects slow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must manage the resource flo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9C4E2C-49D7-4E15-9ADB-A86D0EF76CD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C685112-3561-431A-8410-DB07F6FBE20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play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moli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llow players to demolish constructed item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et the cost for demoli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ctory and loss condi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ny CMSs do not have victory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ss condition is bankruptc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me scenarios can have victory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D5A5B6-A4A8-49A4-8487-8B2DEB453C9A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29E1AB8-96B3-4786-BF0B-E1D3A145C69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8T14:10:02Z</dcterms:modified>
  <cp:revision>420</cp:revision>
  <dc:subject/>
  <dc:title>Fundamentals of Game Design, 2nd Edition - Ch 18</dc:title>
</cp:coreProperties>
</file>