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B53A-2051-4D20-A225-EAD22BA28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 sequitur is something that does not follow lo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similitude means having the appearance of truth. Sports games must be real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79B93-05A7-4264-9C29-2E5B4E98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E951F-D970-4AED-8F6A-B15D2AB7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B2327-98B3-4AF3-829C-4520E17D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61891-84FD-427D-A231-F0F3AF4A2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EBA0-FB9D-4A03-AD18-B9533612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1C31-068A-467F-9800-86CAA00F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8FDA-EC60-4DE4-BF98-C16947D7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F90F-2DDF-4C10-B80C-F92D19E5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EE2B-3933-4312-AE37-03E5FACE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CFF2-66C1-4BD2-AFE4-9DA86BAF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255A-AD73-4B2C-9C4A-73D4CD3D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E3692-3A6D-41B6-8F90-60E635DB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EE8A-CECB-453F-868E-735CECB9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6E23-4C22-4EA5-84A2-8A82E1ED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3164-BD54-48EE-8A9F-81DFAC6D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C75C-3C1C-476D-9B07-DC8B15936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43E1-569D-443E-8B7C-68A80CB73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11624-E504-44E8-9543-26671CA6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D2FF0-5F8B-4A25-86F6-5CD289B4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7FEE4-4CE2-44BB-B6A1-F6A5806A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4EF1D-4498-4A74-9E5D-45B4269D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0E881-A56C-4DC3-8181-2E385C93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A10B8-EBC7-4E42-A051-80C9FB80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E1732-B1C8-4D27-968F-72EB7995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37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2 General Principles of Level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1314-E743-41A1-B2CA-1304FB34B3C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B34D-8C85-4A45-B7FF-34084171F40B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423A-5BED-49DA-9343-1447ADBF199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2: General Principles of Level Design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allel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odern variant of linear layou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ariety of paths can go through th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n reflect a foldback story structur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ing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returns to its starting poin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val tracks or twisting road-racing tracks are rin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for rac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49520" y="4191120"/>
            <a:ext cx="145728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913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25AFF-9F90-4898-896E-AA77DF19AE5A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FFE774-F1F7-4EC4-9A81-7812C2A04C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twork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paces connect to other spaces in different way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ive the player freedom to take any pat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ories must be able to tolerate player experiencing events in any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b-and-spoke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ntral hub is usually a safe zon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ovides some choice of where to g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k off some areas to control sequence a litt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905120" cy="1857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2286000" cy="1901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4877D-AFFC-4F9A-B92F-6776B1530F8F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47E76B-D708-4631-AC95-7F0F0A8F53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ations of layou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bines aspects of several layout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-playing games and adventure games often use combinatio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68760" y="3429000"/>
            <a:ext cx="3605040" cy="26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5627D-47E3-4F8C-9621-5935273CA69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C9F10D-2DB4-4503-B103-2D34834C50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 assembles components to create the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gh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 palet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nd atmospheric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visual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bient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audio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DDDDD-8664-46AF-AD24-B1CBCCED5C4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EC5C9E-5F09-45BB-A53F-AF262F166B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 refers to change o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esigning progression, consider these facto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388620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c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durat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cillary rewards and environmental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actical gameplay reward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3505320"/>
            <a:ext cx="38862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fficulty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ons available to the player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ory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growth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7988C-979E-4956-B82A-83F995A3F4F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0D28E6-7FC7-43B1-AF13-8653C118FF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cing refers to the frequency of individu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nre affects pac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deathmatch shooters use the fast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use the slow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with fast and slow peri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all pacing should remain steady or become more rapid near the end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3CBAD-7596-45FF-BF9A-3EC1744037A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BF5971-7440-4131-B464-AF310F9EFA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utorial levels teach the player how to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what scripted experience that explains the game’s user interface, challenges, and ac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oduce features in an orderly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witch off features not yet introduc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game is complex, use more than one tutorial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ight screen elements when you introduce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 player go back and try things again conveni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iceover narration or text can expla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rule: Make tutorial level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op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B8844-0F33-4AEB-89C3-4F05D02B6ED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D7F2C5-28D3-4C43-8453-4B03BD273F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to level design handoff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st features in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rough overview map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pha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level in detai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sequence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cument the gameplay, art, performance, and code requir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3D358-0D0D-4CA3-85E2-F5999578E57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0CFDD6-0FC5-4044-90A9-580F101AE3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toty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emporary models of the landscape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s serve as blueprints for the art tea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the proto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edback from the design, art, programming, audio, and testing tea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64807-874D-4C2F-8B30-20C8B3DE537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5217CD-39BC-4DBA-8B8C-12574FE28C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finement and lock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corrections based on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and correct until the level is flawl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 to art handof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all files to the arti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l artists how the level should look and 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act the audio team for any needed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A42EB-BAC6-4DC6-B4CD-99D50937A5D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4EAFAC-B38A-459D-BBD9-8B307818CF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level design can enhance or undermine a game’s story and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 between universal and 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possible level layouts and understand when to use each and how to combine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5598A-9836-4A92-BD9D-486CB343431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57F9BF-8DAA-4568-A7B0-AF5ED28C93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 art and rigging pa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 team builds the real artwork and rigg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might need to incorporate the new content into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 to level design handoff and review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 final art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duct a re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835DD-F5D0-4431-8524-680AD41C6E7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52A717-3B82-465F-9C7D-CA4E1AB119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nt integ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semble all the assets into the complet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just any rigging as necess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g fix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for bugs and mistakes and hand off to Q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testing and tun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A creates a test plan and begins alph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oroughly alpha tested, hand off to bet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07FDE-3E4E-4D65-9A95-873A3206051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9FB5D1-1F06-46BA-BE1F-93706B52C2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t the scope righ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within your available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common to design something that’s too bi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events in a game make it harder to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rewarded, not punished, for using their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011E4-5C80-44F6-B593-939BAD11D56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E99157-6382-445F-BC87-B90D72B251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typical levels optiona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break the player’s suspension of disbelie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could prevent some players from complet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n’t show the player everything at o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w features gradu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ain the player’s inter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6FAC0-AA6D-4EA2-9B7B-F2F6AE54AD5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52E0A9-2875-42DB-9BAF-0582C15A73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ver lose sight of your aud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-centric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derstand your target audience and deliver what they w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d the “Bad Game Designer, No Twinkie” articles for more examples of design err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ww.designersnotebook.com/Design_Resources/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_Twinkie_Databa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3A52E-BDCB-485E-B891-AFC4B4148A4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4C8368-DBFC-4D80-9FCD-9E67473A99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pply key design princip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variety of layo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tmosphere, set a pace, and build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lete the level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common pitfalls of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D0091-3697-46B4-BD5F-84DEC797EA8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03E8AE-92BA-492F-94F9-F2ECF3D868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atmosphere, pacing, and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aspects of the level design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some of the pitfalls of level design, such as inappropriate scope an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E4C0A-E4B1-4C96-9AFB-374B28996B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4AA172-6667-451A-9B61-4282072455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Level Design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403848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pace in which the game takes pla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itial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t of challenges within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0" y="34290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rmination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terplay between gameplay and sto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esthetics and mood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: constructing the experience for the player using components from the game designer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s create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2C1D1-03A8-42FB-99EC-ACB24D46E45D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86A365-6263-4854-8A4C-0AC198B327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the early levels of a game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e player surmounts a challenge that consumes his resources, provide more resourc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early inform the player of his short-term go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C4EFD-6C38-448D-AD58-D412000A68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2EA50D-4A3C-4B71-B34B-244E481AD4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lear about risks, rewards, and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the player for skill, imagination, intelligence, and dedic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in a large way, punish in a small w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nd more resources (polygons, memory, CPU time) on the foreground than on the backg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rpose of an artificial opponent is to put up a good fight and then lo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multiple difficulty setting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9C1CA-37EA-4C1E-9B61-B4E62E76BA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856119-6673-479A-AA39-E97A77B3AD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y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-playing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opportunities for character growth and player self-express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risimilitude is vit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hicle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skillful maneuver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C76DF-2677-46BB-AEE1-328BD5591A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DFAA37-1A5C-4232-9812-9BF7AA472E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 and management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an interesting variety of initial conditions and goa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struct challenges that harmonize with their locations and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lif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te many interaction opportunities for the creatures in their environmen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ve the player time to think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E5B16-B49D-4B7D-9A88-DAA461684F6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5F35E1-9C56-4056-A84D-FF5E20D07E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ow unconstrained move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rrespond to the outdo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in war games and role-play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near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quire player to move in a fixed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 move only to next or previous are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raditionally in side-scrolling action games and 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4398840"/>
            <a:ext cx="2361960" cy="1928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1D20D-BB6D-4334-A857-758BD16CC893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640D59-4F11-474B-A28F-4CD1796BD7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45Z</dcterms:modified>
  <cp:revision>242</cp:revision>
  <dc:subject/>
  <dc:title>Fundamentals of Game Design, 2nd Edition - Ch 12</dc:title>
</cp:coreProperties>
</file>