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5EB5-8EBD-4EBE-88BC-E2F0090E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2244-A47B-466C-9540-5DE443A5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A7F-A9C9-44D9-AB8D-10B3AB67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B40-702B-4042-A236-EE49DAA9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13F-66D3-4904-A0F6-9CF8E6D7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AD4-7CC0-43C1-9CDC-0000FEEA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7AD-EA81-4ED1-A69D-2187FD8D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22D-B348-4427-8D8C-A199E161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A3E2-C177-4C9A-9F0E-3BB53F1D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DCC-298A-491E-9F0C-3277D0A7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E4E-0E04-4BBD-9F3F-1AAFBF53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F0F-7073-45F6-BF4B-5EEE5ECF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BE0A-286A-496B-AEEF-A8F825C3A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5486400" cy="5029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638680"/>
            <a:ext cx="8534160" cy="990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838080"/>
            <a:ext cx="4800600" cy="419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Gener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 Add-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808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Out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48520" y="304920"/>
            <a:ext cx="2514600" cy="50292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07520" y="38088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4419720"/>
            <a:ext cx="914400" cy="1676160"/>
          </a:xfrm>
          <a:prstGeom prst="downArrow">
            <a:avLst>
              <a:gd name="adj1" fmla="val 50000"/>
              <a:gd name="adj2" fmla="val 458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2895480"/>
            <a:ext cx="1904760" cy="914400"/>
          </a:xfrm>
          <a:prstGeom prst="rightArrow">
            <a:avLst>
              <a:gd name="adj1" fmla="val 50000"/>
              <a:gd name="adj2" fmla="val 5207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1219320"/>
            <a:ext cx="12956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34320" y="2057400"/>
            <a:ext cx="1295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2971800"/>
            <a:ext cx="1295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19:29:58Z</dcterms:created>
  <dc:creator>Ty Anderson</dc:creator>
  <dc:description/>
  <dc:language>en-US</dc:language>
  <cp:lastModifiedBy>Ty Anderson</cp:lastModifiedBy>
  <dcterms:modified xsi:type="dcterms:W3CDTF">2003-08-18T19:52:53Z</dcterms:modified>
  <cp:revision>3</cp:revision>
  <dc:subject/>
  <dc:title>Slide 1</dc:title>
</cp:coreProperties>
</file>