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79B-47E4-4767-983C-268CABC79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863-0F6E-40CE-8C6E-51E55F00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1A3-FD30-4BF3-BA4D-E86DCF56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04D6-7015-401E-94C0-489526D8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CA6-3489-4753-A6FA-C2EAA388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B58-079F-47A8-B356-B59A0D1A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D90-6F1A-4907-AFDD-677B208A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E8C-1825-4F47-869B-5A27FBA7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61C-E0B6-4EE5-9B38-051202E2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3C8-C80A-4BE6-9083-805387BA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809-3D2F-483D-BC7D-66002EF5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CCE9-84C5-4BDD-9706-EE5AEB23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2073-D254-4F37-BACA-084FF5524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5486400" cy="5029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638680"/>
            <a:ext cx="8534160" cy="99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838080"/>
            <a:ext cx="4800600" cy="419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Gener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 Add-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808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304920"/>
            <a:ext cx="2514600" cy="50292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7520" y="38088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4419720"/>
            <a:ext cx="914400" cy="167616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895480"/>
            <a:ext cx="1904760" cy="914400"/>
          </a:xfrm>
          <a:prstGeom prst="rightArrow">
            <a:avLst>
              <a:gd name="adj1" fmla="val 50000"/>
              <a:gd name="adj2" fmla="val 520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219320"/>
            <a:ext cx="12956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2057400"/>
            <a:ext cx="1295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971800"/>
            <a:ext cx="1295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9:29:58Z</dcterms:created>
  <dc:creator>Ty Anderson</dc:creator>
  <dc:description/>
  <dc:language>en-US</dc:language>
  <cp:lastModifiedBy>Ty Anderson</cp:lastModifiedBy>
  <dcterms:modified xsi:type="dcterms:W3CDTF">2003-08-18T19:52:53Z</dcterms:modified>
  <cp:revision>3</cp:revision>
  <dc:subject/>
  <dc:title>Slide 1</dc:title>
</cp:coreProperties>
</file>