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E0BF-2E08-43E3-A8B0-B14DA81F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64BE-CA5A-43A3-B2D6-AA8CCA90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ABC7-3232-4072-8316-9075677F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1E7A-5E80-47D9-9220-43CD5EB5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CCB3-A968-4334-9B26-18D8B07B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C06-3E1C-4351-9C6A-49D610C5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8E22-92C2-43FC-950F-0A2B5AEF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7BF6-AC26-4FA8-9779-A61C92AC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6780-74CC-411F-88C2-1516BD1B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CD73-11A6-40AF-8C20-48FA7158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6435-E336-4897-A089-1A59F46A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AE0-2F2B-4CC5-9C82-B830EF0F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4675-6EF5-4A68-AC44-CAE83D905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5486400" cy="5029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5638680"/>
            <a:ext cx="8534160" cy="990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838080"/>
            <a:ext cx="4800600" cy="419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 Gener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 Add-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3808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Out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48520" y="304920"/>
            <a:ext cx="2514600" cy="50292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07520" y="38088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4419720"/>
            <a:ext cx="914400" cy="1676160"/>
          </a:xfrm>
          <a:prstGeom prst="downArrow">
            <a:avLst>
              <a:gd name="adj1" fmla="val 50000"/>
              <a:gd name="adj2" fmla="val 458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76920" y="2895480"/>
            <a:ext cx="1904760" cy="914400"/>
          </a:xfrm>
          <a:prstGeom prst="rightArrow">
            <a:avLst>
              <a:gd name="adj1" fmla="val 50000"/>
              <a:gd name="adj2" fmla="val 5207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1219320"/>
            <a:ext cx="129564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34320" y="2057400"/>
            <a:ext cx="1295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2971800"/>
            <a:ext cx="1295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19:29:58Z</dcterms:created>
  <dc:creator>Ty Anderson</dc:creator>
  <dc:description/>
  <dc:language>en-US</dc:language>
  <cp:lastModifiedBy>Ty Anderson</cp:lastModifiedBy>
  <dcterms:modified xsi:type="dcterms:W3CDTF">2003-08-18T19:52:53Z</dcterms:modified>
  <cp:revision>3</cp:revision>
  <dc:subject/>
  <dc:title>Slide 1</dc:title>
</cp:coreProperties>
</file>