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B53B09-E7AE-4C17-9EA1-604FACB7E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F0DEEE-741F-4434-B700-570946AD1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CC8360-285B-4D7F-B217-C86D75FB6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E0B190-ED25-4B7F-82C0-E07791298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C3F66-99D8-4C91-A764-7F30CC677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411E7-8906-4D24-870D-3CC3B79DD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5FA69-F50F-4A0E-9213-1F0E90C3B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61A66-4629-4113-A5F8-A29FD314F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CC5A2-0C8C-456E-AF56-B5ADA6FA8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685800" y="184464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5DCCC-9546-41E2-AB03-837EDEC71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21CAE-F3F2-46FB-BC21-F7869C41A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7AE7C8-9A60-45CD-90B8-A46C6D4FD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F1A68-C13B-4BA4-8058-A85122183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FE5F4-5CBC-4385-A374-C22711779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4E5F1-200C-42B9-BF0C-554211649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89807-F23F-4AE5-A91E-F9EDBE6FB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9AB62-80CE-48F1-8477-B03810FAC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50EED6-F368-4FA2-B167-B7300438A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34DFC9-0E40-4FE3-BD25-80EC1F3B6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2EFE53-5F45-42DC-A898-ACFBD147F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685800" y="184464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1FD9CD-3A80-4BF8-9183-E29D8C9CB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3A0939-140A-47AE-8F55-7D507227F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A42B0E-B43A-45B9-9907-422D1EC78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B85D0A-1EC9-4643-97E3-B82F84E0F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4998B-483C-41E1-A8C6-FAD611F9F44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A1F9B-94CD-42D0-BC0E-AB1F9C53637B}" type="datetime">
              <a:rPr b="0" lang="en-US" sz="1200" spc="-1" strike="noStrike">
                <a:solidFill>
                  <a:srgbClr val="ffffff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D1C5B-47A8-46DF-BBC2-B3053E4EC1E3}" type="datetime">
              <a:rPr b="0" lang="en-US" sz="1200" spc="-1" strike="noStrike">
                <a:solidFill>
                  <a:srgbClr val="ffffff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8A43F-36FB-4961-A4D5-816B5014D8D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8T21:31:33Z</dcterms:created>
  <dc:creator>Ty Anderson</dc:creator>
  <dc:description/>
  <dc:language>en-US</dc:language>
  <cp:lastModifiedBy>Ty Anderson</cp:lastModifiedBy>
  <dcterms:modified xsi:type="dcterms:W3CDTF">2004-08-29T07:17:33Z</dcterms:modified>
  <cp:revision>502</cp:revision>
  <dc:subject/>
  <dc:title>Event Management Sale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