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E8BB-C135-4E59-A719-229AE788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11FCB-82FA-42BA-A26B-2284A43E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17B08-AA48-4FAA-9654-6D99BCC1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44F6D-CB0C-4611-A0AE-9AF94945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3C78-026A-41E7-BA41-FFE8E688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8ECE-0B78-4B35-BF89-75207556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347C-5FB5-4349-B985-F83674DB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8FED-91FD-4E4C-93DD-641A0EE6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7C5D-6D0D-47C8-9B36-BBFEB358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FE49-FC97-4958-A145-5BAFF2DC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4E0F-A241-4F33-B6E9-EC79EA2B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80466-995D-4CA5-944D-66C339F9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C8B6-9943-4AA2-9707-A345599C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21DA-2D38-4EB7-910F-545C854E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29B0-B299-4B9D-9B94-77DC376F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E412-B6CA-420C-9C6A-22700EF9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AA17-75F6-479E-963F-9ACFB224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9789C-B1E9-433D-A4D0-E88123D6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29D5E-250F-4459-B0E6-354D00DB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F2AF9-FB77-41EA-8790-67AF5C4A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E9A37-B0B0-41E9-AA77-A12DEB80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911FC-967D-4070-B289-C4545BE6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7D25-C8D9-4571-A019-A098A65E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70561-3384-4B76-B184-0B203506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9BDA-00DF-4CF6-8BB6-078A7DC857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3182-B66C-44C9-A287-436ECFBB042F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AF61-CDDE-47B5-92F4-BB59577BAC20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C733-C84F-4A67-A1BB-3022EE0059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21:31:33Z</dcterms:created>
  <dc:creator>Ty Anderson</dc:creator>
  <dc:description/>
  <dc:language>en-US</dc:language>
  <cp:lastModifiedBy>Ty Anderson</cp:lastModifiedBy>
  <dcterms:modified xsi:type="dcterms:W3CDTF">2003-07-28T17:03:33Z</dcterms:modified>
  <cp:revision>493</cp:revision>
  <dc:subject/>
  <dc:title>Event Management Sale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