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AA59-7BDE-41FC-A959-59CB8F58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8163-B13C-4A90-9D1A-9482A92F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FAFB-9683-4391-A912-A4DA2634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8E28-0DF3-4091-B8D2-5F3D3B9D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9DC5-AFB7-49C3-83A6-5079418C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EDC5-CE47-4D4D-920E-E72BA715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8B33-8041-4AE1-A6C2-A0E7D052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974E-88CD-4A71-B62C-DAE98692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D024-848F-43A3-BF21-E9211658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403B-A08B-45CF-8DDF-363DB5DB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0F0B-DDA4-4F47-8BA5-9E45512B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80CC-D48B-4972-81B3-E542C76A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4B2D-2BF2-4CAD-A87D-5BC2A96E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2FAF-75BC-434E-97F0-BFD72B94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F59D-68C3-49A9-A80B-1DADA0EB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937C7-9193-44FF-AEFF-ABC8B093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1258-153D-4E1E-8351-88E75D4E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C8A2-AF79-4010-A548-2BB98086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8C133-E011-4335-BAED-4F36FA7C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B72A0-2A21-4057-B267-A1080E87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C1F0-AF7E-40D4-928E-355E0D77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6AF7-7515-4D28-B312-3364D2DB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8867-406F-4052-A618-EE98BE79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41F8-6C5F-4E52-B98B-929C1BE4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3463-6FDC-45F9-88BC-AB77D4F6B7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D17A-075D-4F6A-96BD-9FFFC46A3450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7968-5D56-43B7-8ACF-8D40ABA15FB5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5E2E-F76A-42B5-9EFC-941891D6D7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21:31:33Z</dcterms:created>
  <dc:creator>Ty Anderson</dc:creator>
  <dc:description/>
  <dc:language>en-US</dc:language>
  <cp:lastModifiedBy>Ty Anderson</cp:lastModifiedBy>
  <dcterms:modified xsi:type="dcterms:W3CDTF">2004-08-29T07:17:33Z</dcterms:modified>
  <cp:revision>502</cp:revision>
  <dc:subject/>
  <dc:title>Event Management Sale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