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446-E04C-4816-8DFE-4C422EA3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4CA-B6C8-42C8-A693-39323485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661-3BA4-422E-B684-E5B365BC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509-EB4D-424E-84F7-D339287B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9B4-6495-4A77-897F-D4E03A90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843-6591-4A5B-943E-D8BEC230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299-F473-4C9A-BA26-8C7D8770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91D-7028-43EE-8AB4-C80833EC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F26-33AF-4AE7-AC60-ED5B3FF9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A03-229C-4B05-8EE1-8356932B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2B1-DE80-434D-AF48-267E232F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D3F-8DC5-457A-BFAD-1276BB12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1397-CD4F-4D3B-944D-EE35474AD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5486400" cy="5029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638680"/>
            <a:ext cx="8534160" cy="99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838080"/>
            <a:ext cx="4800600" cy="419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Gener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 Add-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808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304920"/>
            <a:ext cx="2514600" cy="50292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7520" y="38088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4419720"/>
            <a:ext cx="914400" cy="167616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895480"/>
            <a:ext cx="1904760" cy="914400"/>
          </a:xfrm>
          <a:prstGeom prst="rightArrow">
            <a:avLst>
              <a:gd name="adj1" fmla="val 50000"/>
              <a:gd name="adj2" fmla="val 520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219320"/>
            <a:ext cx="12956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2057400"/>
            <a:ext cx="1295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971800"/>
            <a:ext cx="1295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9:29:58Z</dcterms:created>
  <dc:creator>Ty Anderson</dc:creator>
  <dc:description/>
  <dc:language>en-US</dc:language>
  <cp:lastModifiedBy>Ty Anderson</cp:lastModifiedBy>
  <dcterms:modified xsi:type="dcterms:W3CDTF">2003-08-18T19:52:53Z</dcterms:modified>
  <cp:revision>3</cp:revision>
  <dc:subject/>
  <dc:title>Slide 1</dc:title>
</cp:coreProperties>
</file>