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85E-F43A-4C49-8C77-525163B6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BA-18DF-40E9-BA01-767A3728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F97-480D-4B33-AE43-55883965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2E8-26BA-4FFC-8052-0F21D181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4F0-D1DD-4886-881D-53E6298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549-1B56-4B14-A6B1-10B0D0EB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7D6-7E27-4685-81DA-45412C72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55C-5C32-4EF9-A5DA-5DB7BAA3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0CD-CAC1-4A52-872A-EF1FA763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2D0-8B6B-4847-86A6-B6BC06F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967-6B28-4855-B5ED-C93C25F4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104-02B0-4738-9C51-02484B31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90B-660B-4A64-A53D-D9C8C6EF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54864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638680"/>
            <a:ext cx="853416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L Serve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38080"/>
            <a:ext cx="48006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Gener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 Add-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3808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Out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48520" y="304920"/>
            <a:ext cx="2514600" cy="502920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07520" y="38088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4419720"/>
            <a:ext cx="914400" cy="167616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2895480"/>
            <a:ext cx="1904760" cy="914400"/>
          </a:xfrm>
          <a:prstGeom prst="rightArrow">
            <a:avLst>
              <a:gd name="adj1" fmla="val 50000"/>
              <a:gd name="adj2" fmla="val 520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53080" y="1219320"/>
            <a:ext cx="12956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34320" y="20574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1520" y="2971800"/>
            <a:ext cx="1295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19:29:58Z</dcterms:created>
  <dc:creator>Ty Anderson</dc:creator>
  <dc:description/>
  <dc:language>en-US</dc:language>
  <cp:lastModifiedBy>Ty Anderson</cp:lastModifiedBy>
  <dcterms:modified xsi:type="dcterms:W3CDTF">2003-08-18T19:52:53Z</dcterms:modified>
  <cp:revision>3</cp:revision>
  <dc:subject/>
  <dc:title>Slide 1</dc:title>
</cp:coreProperties>
</file>