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42F21-7C16-4B1E-83D5-58BCFE519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C768C-2C49-4710-AC61-64BBBA895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9CE1A-CCB3-4D44-AF3C-DB1442FAA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F11EF-29A5-4BC6-92BD-6B578840D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D69FF-A9F5-4873-9C11-A04FBEF06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61550-5B96-42BB-9A01-2939B1725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FC4FC-D620-4EA2-83BB-E6410C739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AC37B-4BD8-41DD-A58F-4930E2583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B70FC-A839-462C-9F21-C32AB90ED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6C19F-9C5A-45CD-8C9E-B4FA4028A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7B892-3183-4973-B8B2-B2E402A5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879FC-A3D8-43E2-82D5-E2F89A42A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A7B70-A661-4F2B-BC68-828EF006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C6EC9-E17D-44E1-B1CF-92A8AFF6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A6367-FE24-446F-8D92-A06CEF91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58D36-7C89-4DC5-920A-B3DE4CE6F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509FC-F6B0-458C-A711-3BA625837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5F743-E12E-4FCE-A99C-18D44C952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EF0C5-72DE-4A4E-9B4C-68B9C9235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37D5E-CE50-4F2B-9EAB-37BAC474C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5F1D4-8246-4A5A-835F-4E94DB2A7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8B1A1-D66D-4F8D-B449-C2A703A0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A9828-9441-42DC-9E62-87CD2B2E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CBE12-CFD9-4ED5-A843-D5249247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FDB59-58A1-40E5-9D90-87ED01467B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ABBE7-769E-4C2F-934B-D17C5ACAE5EA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F8AFB-0F83-48E7-9522-BEA7A3BF159D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4E6D0-4C90-4061-B3FC-06ADA4004E1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8T21:31:33Z</dcterms:created>
  <dc:creator>Ty Anderson</dc:creator>
  <dc:description/>
  <dc:language>en-US</dc:language>
  <cp:lastModifiedBy>Ty Anderson</cp:lastModifiedBy>
  <dcterms:modified xsi:type="dcterms:W3CDTF">2003-07-28T17:03:33Z</dcterms:modified>
  <cp:revision>493</cp:revision>
  <dc:subject/>
  <dc:title>Event Management Sale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