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4FE6D-B4EF-4C58-B06F-73478DEFA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C4341-A68C-4EAA-91F7-E6D5F7DA5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42409-7562-4510-9794-788B823F5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864A4-7240-41F1-8377-CD000A10A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8D6E8-9ECA-4206-8F32-CA9D19EBC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1EDAD-9302-4ABD-96E9-CF40C698B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81954-6938-4AAE-8BC7-C9DFE2B9B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F8E00-70C1-478D-8ED6-AB4013993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5F8C7-11DE-4934-9FB3-0DF9334CB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518C0-6455-4C3C-909F-8B81085D8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6D376-03C8-428B-A695-E9940CF35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CE62F-6D7E-4F91-A80C-35819D4F4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5A73A-E920-4736-B210-F001F67D71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79280" y="42840"/>
            <a:ext cx="8782200" cy="67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0T18:01:03Z</dcterms:created>
  <dc:creator>Krzysztof Malinowski</dc:creator>
  <dc:description/>
  <dc:language>en-US</dc:language>
  <cp:lastModifiedBy>Krzysztof Malinowski</cp:lastModifiedBy>
  <dcterms:modified xsi:type="dcterms:W3CDTF">2005-10-20T18:01:14Z</dcterms:modified>
  <cp:revision>1</cp:revision>
  <dc:subject/>
  <dc:title>Slajd 1</dc:title>
</cp:coreProperties>
</file>