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58400" cy="7772400"/>
  <p:notesSz cx="6664325" cy="9867900"/>
</p:presentation>
</file>

<file path=ppt/commentAuthors.xml><?xml version="1.0" encoding="utf-8"?>
<p:cmAuthorLst xmlns:p="http://schemas.openxmlformats.org/presentationml/2006/main">
  <p:cmAuthor id="0" name="Tomasz Rzychoń" initials="T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5-10-16T17:55:16.765000000" idx="1">
    <p:pos x="4644" y="2412"/>
    <p:text>zabijcie mnie, ale nie wiem, o co chodzi z acutal share, share of voice i share of mind - nie znajduje do tego odwołań w książc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4200" y="4545720"/>
            <a:ext cx="855000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4200" y="454572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35400" y="454572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275292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2244240"/>
            <a:ext cx="275292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6160" y="2244240"/>
            <a:ext cx="275292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4200" y="4545720"/>
            <a:ext cx="275292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4545720"/>
            <a:ext cx="275292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6160" y="4545720"/>
            <a:ext cx="275292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4200" y="454572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35400" y="454572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4200" y="4545720"/>
            <a:ext cx="8550000" cy="210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spcBef>
                <a:spcPts val="774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7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774"/>
              </a:spcBef>
              <a:buClr>
                <a:srgbClr val="0000ff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774"/>
              </a:spcBef>
              <a:buClr>
                <a:srgbClr val="0000ff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77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77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77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889840" y="345960"/>
            <a:ext cx="992520" cy="1035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561360" y="7392960"/>
            <a:ext cx="331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©INS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Marketing and People Ltd 20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75800" y="2554200"/>
            <a:ext cx="8610840" cy="2438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ff"/>
                </a:solidFill>
                <a:latin typeface="Arial"/>
              </a:rPr>
              <a:t>Plan marketingowy (szablon)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44193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Arial"/>
              </a:rPr>
              <a:t>Cele firmy w segmenci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ki jest nasz horyzont planowani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elowy wolu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ysk lu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ntow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sz udział w segmencie ry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pozycję konkurencyjną chcemy zdoby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zas, w jakim chcemy osiągnąć c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odsumowanie głównych działań</a:t>
            </a:r>
            <a:br>
              <a:rPr sz="2000"/>
            </a:b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Arial"/>
              </a:rPr>
              <a:t>Proponowanie wartości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jaki sposób poprawimy doświadczenie klienta w poszczególnych fazach cyklu działań klien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ożesz posłużyć się</a:t>
            </a:r>
            <a:r>
              <a:rPr b="0" i="1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yklem działań klienta (w formacie MS Excel), zamieszczonym na płycie CD</a:t>
            </a:r>
            <a:br>
              <a:rPr sz="1800"/>
            </a:b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dostarczamy wartoś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Z punktu widzenia klienta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Skwantyfikowane miary wartości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Zgodność z wartościami firmy i klientów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O ile jesteśmy lepsi od konkurencj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j nagrody oczekujemy za dostarczaną wartoś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Arial"/>
              </a:rPr>
              <a:t>Zarządzanie relacjami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85000"/>
          </a:bodyPr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 są nasi kluczowi klien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klienci kluczowi-rozwojowi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klienci podtrzymując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klienci oporni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strategie sprzedaży i obsługi klienta zastosujemy do każdego z wymienionych typów klientó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 jest ogólny plan w stosunku do każdego z kluczowych klientó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ożliwości i cel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cierz kontaktów i PLA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ykl działań klienta i analiza pozytywnego wpływu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rolę odgrywa obsługa klienta w  budowaniu i utrzymywaniu relacji z klientam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rolę odgrywa CRM w zarządzaniu relacjami z klientam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Arial"/>
              </a:rPr>
              <a:t>Zarządzanie marką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a jest definicja mark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Kontekst wartośc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terakcje z klientem: świadomie kształtowane doświadczenie klienta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Zaangażowanie emocjonaln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działania służą rozwijaniu pozytywnych interakcji z klient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mamy plany (jeśli mamy) na rozwój mark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Arial"/>
              </a:rPr>
              <a:t>Przystosowywanie firmy do strategii marketingowej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 działy i funkcje w firmie są najważniejsze dla wykonania planu marketingoweg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 robimy, aby przystosować firmę do wykonania planu marketingoweg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 inne działy są angażowane w tworzenie plan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ich informacji potrzebują ludzie z innych działów, aby wykonać swoje części plan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Arial"/>
              </a:rPr>
              <a:t>Zarządzanie portfelem produktó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98000"/>
          </a:bodyPr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le zainwestujemy w poszczególne produk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ożesz posłużyć się</a:t>
            </a:r>
            <a:r>
              <a:rPr b="0" i="1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cierzą polityki kierunkowej (DPM), zamieszczoną na płycie C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przypadku których produktów będziemy inwestować we wzro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Utrzymanie zwycięskiej pozycji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10360" indent="-310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udowanie przewagi konkurencyjnej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przypadku których produktów będziemy maksymalizować przepływy pienięż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przypadku których produktów będziemy ograniczać inwestycje i dlaczeg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ch zysków oczekujemy z każdego produkt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olumen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artość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, próg </a:t>
            </a: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ntownośc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1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Cele taktyczn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 jest nasz horyzont planowan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lum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artoś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ys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dział w segmencie rynku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tysfakcja klientó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odsumowanie głównych działań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Planowanie: produk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 wesprzemy istniejące produk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 zrobimy by wydłużyć cykl życia istniejących produktó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Odmładzanie, ulepszanie, repozycjonowani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lanowanie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kreślanie przedziałów czasowych kolejnych działa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erniki finansow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mamy plany w obszarze rozwoju nowych produktó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lany projektów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zedziały czasowe dla rozwoju nowych produktów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ierniki finansow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 wprowadzenie nowych produktów wpłynie na produkty istniejąc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Planowanie: polityka cenow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85000"/>
          </a:bodyPr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metodą ustalamy ce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Koszty plus marża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edług cen rynkowych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edług wartośc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 jest mechanizm naszej polityki cenowej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y jeden cennik dla wszystkich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oponujemy różne cenniki dla różnych klientó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eagujemy w zależności od sytuacj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to jest odpowiedzialny za ustalanie c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Kto może zmieniać ceny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y planujemy, że będziemy ustalać ceny metodą marginaln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n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720" indent="-269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łącznie z oczekiwanymi marżami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5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Planowanie: punkt sprzedaży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mi kanałami dystrybucji będziemy docierać na ryne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 są nasi partnerzy w dystrybucji lub klien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 zamierzamy zarządzać naszymi partnerami w dystrybucji lub klientam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y chcemy zmienić podział zadań i nagrody pomiędzy nas i naszych partnerów w dystrybucji lub klientó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zy chcemy wykorzystywać inne kanały dystrybucj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lany projektu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amy czasowe planowanych działań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ierniki finansowe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4000" spc="-1" strike="noStrike">
                <a:solidFill>
                  <a:srgbClr val="0000ff"/>
                </a:solidFill>
                <a:latin typeface="Arial"/>
              </a:rPr>
              <a:t>Jak wykorzystać ten szablon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4200" y="197460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n szablon jest rekomendowany, a nie narzucany. Zmieniaj go tak jak zechcesz. Opuszczaj lub dodawaj elemen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miast pustych miejsc do wypełnienia lub gotowych wariantów do wyboru, znajdziesz tu fundamentalne pytan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wokujące do myśleni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zablon podzielony jest na trzy sekcj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1600" spc="-1" strike="noStrike">
                <a:solidFill>
                  <a:srgbClr val="33cc33"/>
                </a:solidFill>
                <a:latin typeface="Arial"/>
              </a:rPr>
              <a:t>Strategiczne pozycjonowanie</a:t>
            </a: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1" lang="pl-PL" sz="1600" spc="-1" strike="noStrike">
                <a:solidFill>
                  <a:srgbClr val="33cc33"/>
                </a:solidFill>
                <a:latin typeface="Arial"/>
              </a:rPr>
              <a:t>według rynków</a:t>
            </a: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Dostarczanie wartości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według segmentów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Mix taktyczny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według segmentów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18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znacz horyzont planowania dla każdej z sek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uważ, że nie ma tu wyników audytów ani opisu narzędzi wykorzystanych w audyci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lan marketingowy jest zestawem działań, a nie opisem danych i analiz. Jeśli chcesz, dołącz do planu marketingowego dane z audytów, a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piej zamieść takie dane w załączni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żdej sekcji poświęć co najwyżej dwa slajdy to ma być zwięzły plan działań, który przedstawisz kolegom, a nie elabora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Planowanie: promocj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93000"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środki wykorzystam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zy zaangażujemy w promocję naszych sprzedawcó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wiadomość przekazujem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o firma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W ramach konkretnej kampanii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zez konkretne kanały komunikacji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6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 mamy budż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a kampanię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a konkretne media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a poszczególne kanały komunikacji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rz działań promocyj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96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 będziemy sprawdzać efektywność naszych działań promocyjnych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63600" y="1089000"/>
            <a:ext cx="8153280" cy="67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INSIGHT Marketing and People Lt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1 Lidstone Court, Uxbridge Ro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eorge Green, Slough, SL3 6AJ, U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Tel:  +44 (0)1753 822</a:t>
            </a: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9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Fax: +44 (0) 1753 822</a:t>
            </a: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99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E-Mail:</a:t>
            </a:r>
            <a:r>
              <a:rPr b="1" lang="en-GB" sz="23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eter.Cheverton@insight-MP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ustomer.Service@insight-MP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 algn="ctr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r>
              <a:rPr b="1" lang="en-GB" sz="2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00ff"/>
                </a:solidFill>
                <a:latin typeface="Arial"/>
              </a:rPr>
              <a:t>WWW.insight-mp.co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0">
              <a:buNone/>
              <a:tabLst>
                <a:tab algn="l" pos="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0440" y="690120"/>
            <a:ext cx="9137520" cy="833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200" spc="-1" strike="noStrike">
                <a:solidFill>
                  <a:srgbClr val="0000ff"/>
                </a:solidFill>
                <a:latin typeface="Arial"/>
              </a:rPr>
              <a:t>Aby uzyskać pomo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pl-PL" sz="3200" spc="-1" strike="noStrike">
                <a:solidFill>
                  <a:srgbClr val="0000ff"/>
                </a:solidFill>
                <a:latin typeface="Arial"/>
              </a:rPr>
              <a:t>skontaktuj się z nami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4520" y="6105600"/>
            <a:ext cx="881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Chętnie zaopiniujemy Twój plan. Skontaktuj się z nami w celu ustalenia szczegółów.</a:t>
            </a:r>
            <a:r>
              <a:rPr b="0" lang="en-GB" sz="4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Wizja</a:t>
            </a:r>
            <a:r>
              <a:rPr b="1" lang="en-GB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i cel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jakiej branży działam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pozycję chcemy osiągnąć w przyszłoś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i jest horyzont czasowy naszego planowania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 z naszych mocnych stron nas tam zaprowadz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zięki którym segmentom i klientom osiągniemy zamierzoną pozycj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ch miar sukcesu (w tym miar finansowych) użyjem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Strategia wzrostu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8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 szybko chcemy się rozwija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 mówi analiza luki w bieżącym okresi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 chcemy się rozwija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łębsza penetracja rynk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oszerzanie rynk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ozwijanie nowych produktó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ywersyfikacja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ryzyko jest z tym związa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 zrobimy w celu ograniczenia ryzyk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adanie rynk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estowanie rynk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1000" indent="-27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artnerstwo z doświadczonym kontrahentem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Przewaga konkurencyjn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 są nasi główni konkuren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ie mają udziały w rynku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ą są ich subiektywne modele wartośc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 będzie źródłem naszej przewagi konkurencyjne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iskie koszty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Różnicowanie oferty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 musimy zrobić w celu zdobycia przewagi konkurencyjne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ie zdolności organizacyjne musimy nabyć lub rozwinąć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Czynniki wartości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e są nasze najważniejsze czynniki wartoś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Doskonałość operacyjna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Przywództwo produktow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liskie relacje z klientami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isujemy, jaki wpływ na firmę mają poszczególne czynniki wart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psza dla nas jest strategia nacisku czy przyciągan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dzie jest nasz punkt równowagi pomiędzy wykorzystaniem szans rynkowych a zarządzaniem zasobami firm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 blisko jesteśmy osiągnięcia docelowej pozycj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Jakie kroki musimy podjąć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Segmentacj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99000"/>
          </a:bodyPr>
          <a:p>
            <a:pPr marL="378720" indent="-3787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ich kryteriów segmentacji używam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 segmenty są dla nas najważniejs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pl-PL" sz="1700" spc="-1" strike="noStrike">
                <a:solidFill>
                  <a:srgbClr val="0000ff"/>
                </a:solidFill>
                <a:latin typeface="Arial"/>
                <a:ea typeface="Times New Roman"/>
              </a:rPr>
              <a:t>Aby odpowiedzieć na to pytanie, możesz użyć macierzy polityki kierunkowej (DPM), którą znajdziesz na płycie CD dołączonej do książki</a:t>
            </a:r>
            <a:br>
              <a:rPr sz="1700"/>
            </a:br>
            <a:r>
              <a:rPr b="0" i="1" lang="en-GB" sz="1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to będzie zarządzać najważniejszymi dla nas segmentam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enedżerowie segmentó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18640" indent="-31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enedżerowie kluczowych klientó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18640" indent="-31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enedżerowie marek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18640" indent="-31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enedżerowie łańcuchów dosta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br>
              <a:rPr sz="1800"/>
            </a:b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ą pozycję chcemy osiągnąć w mniej ważnych dla nas segment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pl-PL" sz="3600" spc="-1" strike="noStrike">
                <a:solidFill>
                  <a:srgbClr val="33cc33"/>
                </a:solidFill>
                <a:latin typeface="Arial"/>
              </a:rPr>
              <a:t>Strategia marki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405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ka będzie architektura naszej mark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rki produktów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rka firmowa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ne…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 jakim kontekście (z jakiej perspektywy) przedstawimy wartość mark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2443320"/>
            <a:ext cx="844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ff"/>
                </a:solidFill>
                <a:latin typeface="Arial"/>
              </a:rPr>
              <a:t>Od tej strony wypełniasz osobny szabl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ff"/>
                </a:solidFill>
                <a:latin typeface="Arial"/>
              </a:rPr>
              <a:t>dla każd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ff"/>
                </a:solidFill>
                <a:latin typeface="Arial"/>
              </a:rPr>
              <a:t>segmentu docelow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8:25:05Z</dcterms:created>
  <dc:creator>John Feltham</dc:creator>
  <dc:description/>
  <dc:language>en-US</dc:language>
  <cp:lastModifiedBy>Tomasz Rzychoń</cp:lastModifiedBy>
  <cp:lastPrinted>2000-11-08T21:34:43Z</cp:lastPrinted>
  <dcterms:modified xsi:type="dcterms:W3CDTF">2006-01-01T18:37:17Z</dcterms:modified>
  <cp:revision>29</cp:revision>
  <dc:subject/>
  <dc:title> Marketing Planning Template  </dc:title>
</cp:coreProperties>
</file>