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B33B-AA76-4E4D-B636-A06552698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FF50-FA6C-483A-89A7-A52ADB23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356F-7E41-42C6-A126-BC10950F9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184A-DB06-4BA8-916D-31DABAA14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F43E-407C-483A-AC8F-99B766D08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A3BE-9E85-4C15-AB39-6382E5198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136D-DBF8-4677-B074-3A89F9594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55AE-3737-49E5-82B0-A1D31F16E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CE67-47BC-4CAF-906C-044344228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867B-093A-4134-8EF7-08FF9DCE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9C05-044C-45B2-84C2-714D91DA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21C3-302B-4FC2-801A-556DD8B5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BE018-8F7E-429E-8367-CB9F6653541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ole tekstowe 1"/>
          <p:cNvSpPr/>
          <p:nvPr/>
        </p:nvSpPr>
        <p:spPr>
          <a:xfrm>
            <a:off x="12600" y="127080"/>
            <a:ext cx="9525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op 5 - Indeks Dow Jon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3880" y="1397160"/>
          <a:ext cx="6096240" cy="22255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ro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5-11-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997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347,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 101,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5-10-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637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098,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 902,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6-01-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 070,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607,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 362,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5-07-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754,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142,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 962,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4-01-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748,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341,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 722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6T21:19:38Z</dcterms:created>
  <dc:creator>Helion</dc:creator>
  <dc:description/>
  <dc:language>en-US</dc:language>
  <cp:lastModifiedBy>Helion</cp:lastModifiedBy>
  <dcterms:modified xsi:type="dcterms:W3CDTF">2007-12-26T21:19:54Z</dcterms:modified>
  <cp:revision>1</cp:revision>
  <dc:subject/>
  <dc:title>Slajd 1</dc:title>
</cp:coreProperties>
</file>