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A2B4-D330-4301-8FC9-250088D3A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deo game will not respond to player actions that it has not been programmed to recogn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layers compete, there is often a winner and a lo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, the behavior simulations are very simple. The goal of AI research is to create ever more realistic sim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C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layers learn how to attract a larger population and meet thei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ultiplayer games have a communication method built into the software. However, players often use communication software such 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amSpea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ntri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s and puzzles can be used to play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that can be made while playing are limited by the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DCC0B-A5BF-4565-BFB5-B86FB4C4F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A8AB2-823D-44F9-A6D7-DB83910A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A39D9-2A54-4051-9CE6-A98E67472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3146C-9296-4608-8B94-AEA4AA38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C531-8AA0-4FCB-80C4-9BEBAB5EE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EA41-CC3F-4C66-94BD-A2190E3B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798D-4F6E-43DC-BC80-D6A42E9D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7275-6421-42FF-BBF3-99CFA5C5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68FE-370B-445A-8F58-E54DA791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D5C0-6404-4804-A33B-18063E2A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2AB5-3E21-4671-B94D-14BA5634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A27FE-4C78-419C-96FE-9EF6D12C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A6FF-923D-434F-8AAA-8D8A4354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0ADD-2FF1-4668-A0EC-AA9BDBB9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CA57-2A94-4DEA-808C-63B69B56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5DBC-8FD8-481A-ABAC-78F2011C5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FAB8-11C4-44A1-A7F9-3799D074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79FB8-870B-4DB4-B385-9543F128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1F6A8-48CA-467B-AE1A-A675E9EF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CEAD8-6979-4F6A-AB3F-4542F451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41680-ACED-4139-BE46-8A5E3C76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AD6EF-F6DE-4747-A68E-6D7901E1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72E30-5874-4B73-B35F-866A2383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B6D1E-67D3-49A4-841B-D06FDAE6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  Games and Video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3E88-A235-4D01-9C2C-4169D572DED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4EC4-A4D2-47EC-B422-6DB23C05C078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7534-F5A3-4360-843D-856579880838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: Games and Video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must overcome a nontrivial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require mental or physical eff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hallenge can be composed of several smaller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can be required to reach the goal or optional to add gam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A02EC-7741-4BD2-BEB8-0F1C1EEB255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CB31C8-2B81-4AF7-8118-B056751B5B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rules determine what actions are available to the player(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fferent actions may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mitted by the rules, o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d by the rules, 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hibited by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permit only actions that are programmed into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884FB-2D2B-47E3-948A-5D845F996E5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627CC0-96B4-47BB-9127-3A61E3467F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therefore consists of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allenges that a player must face to arrive at the object of the game, a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actions that the player is permitted to take to address those challenges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plu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possible actions that are enjoy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8C973-96DF-402C-91FB-9FC72D08D29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C622CA-715E-487F-A155-2BF4C65AF7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airn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expect that the rules will guarantee that the game is fai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irness is not an essential element of a game, but a quality of go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often change rules of a game if they perceive it as un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irness is particularly important in video games because video games seldom allow rule cha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A72B9-15E3-4837-A39C-56E105ABD3C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5DDAF2-2D67-40AD-83A1-79B44458CE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ymmetry and Asymmet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symmetric game, all players use the same rules to accomplish the same 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n asymmetric game, different players follow different rules to accomplish different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D8090-EA3C-4888-9FAE-C9BC54C227A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AD01DA-A66F-4180-88D0-B55B0E567C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etition and Cooper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mpete, they try to accomplish mutually exclusi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operate, they work together to accomplish goals that are the same or simil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 are ways to build cooperation and competition int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2F47C-157B-4B4E-A0F7-95C1CEF4D95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E3DC89-D901-4AB3-BCCA-A66E80AF8B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Hiding the Ru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do not require written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enforces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’t chang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adequate clues for players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ing trial and error to overcome a challenge frustrates many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FC856-2EFD-483F-93AE-55BA5BB53BA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48BE0E-2ACB-4DFA-8F08-65BD12F9E9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tting the Pa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software determines the speed of the events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can’t affect the speed of the game unless the software has to wait for player inp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mputer allows for modulation of the pace, so players can rest between periods of intense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1FFE7-EB6C-499A-8E25-2821A10062F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772999-3F8D-4E7E-9C0C-CCCDFDBCFC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resenting a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present a game world, video games can u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i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xt and subti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CBFB6-CC1B-45F4-AA28-861D39F5EC9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DB01B7-D7F7-4CB8-8B0D-89D9381316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Intellige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day, artificial intelligence is used f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fi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ng the behavior of people and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rtificial intelligence advances, games will add more uses for i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par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gene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tern recogn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E38F9-9E9C-4A90-9E61-40A062B367B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F83A6B-290C-4BE7-A407-9F6930F6F7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essential elements of a game—rules, goals, play, and pretending—and what they do in the context of playing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formal definition of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nature of challenges and actions, as well as the formal definition of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3CC93-7302-4370-B2D2-D5CBB903E05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6A36C2-5DD2-4444-B513-A9C3D20009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esthet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 elements should be high in quality and present a harmonious look and fe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look includes the quality and appearance of the graphics, movie clips, animation, buttons, and fo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eel includes the music, dialog, user interface, and objecti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rmony is the feeling that all game elements are part of a coherent wh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E24B4-F35C-4E4D-8AE6-994937A8224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77AA11-0B38-48F5-AA63-EA63031A3C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games incorporate some kind of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mix storylike and gamelike entertainment almost seamless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make player feel he is inside a story and affecting flow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is one reason why video games are considered a new medi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EA9A4-4D33-423E-BA7F-AAB3B2A95D6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96055C-FDCE-48E9-AFFD-3859E50682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isks and Rewar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isk is created by uncertain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the player overcomes the risk, a reward should be give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size of the reward should match the size of the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8E0A0-C83D-457E-A08E-8D41E700D14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C791E3-FE8E-4196-92F8-BD860C441C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velty and Learn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offer more variety and content than any traditional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velty alone is not enough to sustain player interest, howev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enjoy learning when it takes place in an enjoyable context or provides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should supply both enjoyable context and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65E67-71DA-4C11-888C-68BF627C1BD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95CD01-A1E7-4A19-B54F-7ED46ADC57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and Express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love to select, design, and customiz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s activity can have a direct effect o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video games reach a wider audience, creative and expressive play become increasingly import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36DBD-4220-4C3F-8384-DAE2DE77852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D1FFE0-612D-4AF5-ACE2-47261E75B8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mmer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ed players lose track of the real world outside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ion can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sense of being “in the groov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bserving, calculating,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feeling of being inside a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E6AC0-E65A-42E9-9A2A-E284F4828B1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F324B7-0069-47FC-9745-CD8B27D7BE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ocializ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traditional games are played with other people, making it a social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ral methods allow people to play video games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layer loc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tworked play (multiplayer distributed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N pa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2DC8C-FB15-4567-BC3A-8C93CEB7212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A721AB-80F0-469B-AADE-A06FA5AD43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lements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interaction of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ole of the computer in video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rious ways that games enter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E096D-4F04-43B4-964C-F3B7C4CBFD9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F8D16E-4DC7-4129-86AA-1DDC792123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concepts of symmetry and asymmetry, fairness, and competition and cooper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arn the various benefits that computers bring to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ways in which video games entertain peopl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5D69E-0B50-4D7E-9252-573228A785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01BB61-E7F7-4026-B091-3DF09251D0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ys do not have rules or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s ha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have rules and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E57DE-9E41-48C1-BDF9-807A452D98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998B61-BCEF-4100-BF75-212C3E39C5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must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tended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ontrivial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95441-0EEE-45EE-9054-6C1A6CD1A5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AECB69-298F-473D-95F2-3F42B43385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requires particip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ing different choices while playing the game a second time affects the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tend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s an artificial reality known a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importance is assigned to events within the 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leave the magic circle, stop play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95738-0C14-42A4-983C-E48B6EDCDC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F042BB-8736-4F12-A104-F749B45B6B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ery game must have a nontrivial goal or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ules defin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designer sets the rules, thus defining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overcome one or more challenges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achiev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oal is often a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ctory condition, but victory or defeat is not required in all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5DEB3-BB02-4B59-819A-8C49D3D336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735790-DAEB-47AA-BFC9-79ADEBB848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are definitions and instructions that players accept for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define the actions the players may select that will help them achieve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designers must make the rules understandable to the playe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8A535-7FF2-44C9-9720-BEA15DAA83F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C67943-ED56-45EE-B6C1-7125042DDC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ings That a Game Is No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does not have to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tertai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se are qualities of some games, but not essential to the defin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rious games are not necessarily made for entertainment or fu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6BF21-1CEF-479C-B26E-320DAAAF6FD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9F9203-A4C8-4827-9A55-A7ED5B8E2B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3:54Z</dcterms:modified>
  <cp:revision>96</cp:revision>
  <dc:subject/>
  <dc:title>Fundamentals of Game Design, 2nd Edition - Ch 1</dc:title>
</cp:coreProperties>
</file>