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67A67-E82B-49E8-A58D-E7B5B0D41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7E690-F903-4370-96D9-2D47026C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F9CDA-4681-496F-BF57-612172264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F25AE-78ED-4D2A-8ED4-49386B199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1C9E-E120-47A2-A9F4-FBEFD4BB1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4FDC-99A8-4C53-8133-9F5CAD35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6D6A-B2E4-432A-9C26-1CDDD1DA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0CEC-A390-4486-B356-7ACA57F2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A9B4-AD00-4A11-AF11-94F17656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4047-2EA2-4A51-B50F-604C3917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8951-B94D-4125-BF70-4730C92D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898F4-52BB-4970-8218-535592B1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769A-AD89-4FCD-92C8-3E55A402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54BB-708C-4AB1-94DA-8F233691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2C9D-DADF-4373-81A4-7EE59F89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9DCF-77BD-4BD5-BD5D-730DD236D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FE71-64A8-4981-8DB7-914268683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C5AF8-5CE6-4266-BABD-BD07C084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CA70D-3816-4B8F-BFEE-9E003678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2BB70-C761-48EF-9D54-F1619E4A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5ED62-1D59-41ED-A90B-A456344A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9759E-FD28-45CE-BA26-97D05F10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959FB-C00C-4FAE-B8F4-C814675E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EDE2E-B7C4-4171-8D18-22FF839B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5 Role-Playing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DADB-1C05-42AC-BCC9-E50DE9A6FA4D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BD78-C103-458D-916A-E452A2026B74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0CA8-BBE1-499A-B7C2-3E936CCC89EE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5: Role-Playing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and comba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tions include setting a destination, designating an NPC to attack, and using special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vers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u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s dialog tr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d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y and sell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vento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ge carrie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59B1B-540A-4A84-ACBA-0AB0C3E8ED6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8CDDD8-6D41-4C17-99C9-DC50599EEC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olling di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k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w the probabilities to get the result you w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termine general abilities and qualities; change infrequent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x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cla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, mental, moral, and social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F6B74-1D02-4C77-9622-586692F6BB3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02ED46-3D59-4C2F-9005-CF585962AD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, experience,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ributes that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points and character level  measure the character’s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smetic attributes add richness to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76D75-4C62-4B09-8EE2-203C5CFCA1D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02E9E0-4AFE-473A-BBAE-BE08581887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gic and its equival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 that allows characters to influence the world by means not available to us in real lif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ience fiction implements magic as “advanced technology”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of magic restricted by character cla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magic, how it’s invoked, how it’s 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often spend magic points,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n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ana system is more convenient and flexible than the D&amp;D “memorization” syst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82948-0BD0-44FB-B6D9-BACAD0475DA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A74F60-D63F-4612-9425-6C467305C3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kills and special capabi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taining new skills for a character is similar to upgrading a unit in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trees provide a growth path similar to a tech tree in wa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RPGs allow the player to create the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l dice to generate points to distribute among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FE691-77C5-479B-B07C-837DC3877F6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B1EEA6-5805-4F44-8B14-3628444062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nd to be fantasy and science fiction sett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appealing to explo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RPGs provide an editor to enable players to create scripted adventure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E7780-1C7B-4964-A65C-BF17E0A46EE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B1EC25-0538-4715-8AFB-F1A295C3A7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, determine the game’s overall ques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, design the episodes that the player experiences from the beginning to the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e an enticing ope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CFD3A-0CA0-4153-99FD-57711C3259F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6493CE-F5B9-4C72-80D8-B25F30321E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 in single-player CRP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-based is becoming more common, howe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 in multiplaye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person or third person for avatar-based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allows player to see all members of the party at once as well as surrounding ter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08436-A3B6-437C-A2C4-DD00B0366F0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1D1F5A-C1A1-4FCB-B43A-8DC115D397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de range of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terface can be complex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de the mechanics to aid the player’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ve task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nstead of making the player try repeatedly, automate the repetition and sho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progress b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character has low skill at the task, it will take a long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the player to interrupt and abandon the attemp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4ABFC-F705-4F0E-BB21-56C10FB7EAB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CC81A4-6C01-4C78-A102-FA1DAEFEEEB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role-playing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evelopment of the role-playing game from tabletop to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a world and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xperience points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gameplay modes for 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3B416-210B-4692-B52A-5B8D713F7C5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E5FCA3-4744-47D2-919B-B78F4FAA3F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role-playing games and the game mechanics common to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history and evolution of role-playing games from tabletop to comput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character attributes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1BB10-1F33-4F43-B732-6B5E0C1DB03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9F38BC-C3BB-40BF-AE80-E4C90CD318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world and setting suitable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use of experience points and character level for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gameplay modes within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F20AE-9C2E-46FD-98CB-4DB8E292A7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8336D3-1D9D-47B7-9302-84D34020A1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ver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jective is to experience a series of adventures in an imaginary world, through an avatar or a small group of characters whose skills and powers grow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sential parts are the quest or story and character growt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ctory consists of completing th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just enjoy exploring and interacting, even without trying to w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8E224-B163-44B6-9EEE-B181B858AD1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A92B51-957E-44A0-9D8B-74441DC600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types of challeng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gistics (managing supplie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grow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sol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867C5-9C42-422E-9895-94B4AED7EB2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790B2B3-0763-4F73-8AEC-7305D5B3C0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war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include combat governed by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ll group of characters who exhibit growth; no factories to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r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ge group of identical units; factories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0A956-ADE3-449F-B603-742CF74516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D31BF2-3012-4018-8817-56E5DC5DA6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 becoming more common in hybri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such as buying and selling as well as conversations with other charac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zzles more sophisticated than in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are rar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635D1-533D-47AA-A685-EFBE79E62A8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BE23A7-850F-40BC-A760-2BABC6F844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br>
              <a:rPr sz="4200"/>
            </a:b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have rich storylines, highly detailed characters, and 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-defined character; characters defined by numeric attributes that improve over time; complex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tar provided by the game; concentrate on a single character; puzzle challenges; no numeric attributes; personal growth; simple internal economy (or none at all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EA87D-0F8F-4E4D-93E3-4C140370532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E99D940-5A5D-4C34-ACD3-994AD0C19F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and combat make up a big part of most CRP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ing the world is an overused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find an alternativ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ng quest broken into epis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 challenge at the end of each epis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tional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D7B5C-CD64-4984-9191-D20231CF150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7968D0-9818-4FAB-A066-01947A7F60D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9:38:35Z</dcterms:modified>
  <cp:revision>280</cp:revision>
  <dc:subject/>
  <dc:title>Fundamentals of Game Design, 2nd Edition - Ch 15</dc:title>
</cp:coreProperties>
</file>