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5F98F-AF01-48BC-9518-8863B15071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E3788-BFFB-455F-9088-28C70E5D9B17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041BA-FF2F-4321-B15D-528FA720CFD2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E48AF-A08E-4FE8-BECA-8F790A647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625AE-8B84-4514-A403-DF606BB61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6A50A-3142-4D88-BC8C-D14B6D9B3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85720-3234-42F7-AF04-002D65712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9E5F5-B5B0-4516-A903-E123282C2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CF180-70BD-40FB-95D8-76EF2D52D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A55DD-17F1-4EEE-8274-1256B500E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79C4F-A3DA-42BC-929B-1C899237A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C9135-8B65-40DB-B8EC-210AA39CC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7CCC3-0FC5-4DAB-BE7D-7AF18B45C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EFE6B-8B5C-4D88-A096-8C5AB9C5F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860DF-DB25-47E2-BCB2-BA8877566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9909A-59CA-44C3-82D1-A4D6D13A5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D4093-B412-43B7-93B5-70C9E128F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A3DAE-8EBA-4AF6-B935-C15AC8D42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40359-2823-4EAE-B43E-2A01BF429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2C35A-FE1E-48E3-956C-6D4F4B474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136DE-7EC4-4571-AEF2-A12601E7A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2BC62-6B22-4E66-A698-93656C766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F194C-D451-4B5A-9020-233E7EE90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74BDF-9584-4529-9533-59701307C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18D78-2AD6-4A49-B80D-802D55BC7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C20E9-0482-42D2-AF5E-3307FEA52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8D12F-67BB-4983-9C44-ABEF1C46B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8880" y="6248520"/>
            <a:ext cx="3759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20  Artificial Life and Puzzle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B2534-776A-40D7-8A1F-6E1CF56B4DB8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7200" y="6244920"/>
            <a:ext cx="26416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</a:t>
            </a:r>
            <a:r>
              <a:rPr b="0" lang="en-US" sz="1400" spc="-1" strike="noStrike">
                <a:solidFill>
                  <a:srgbClr val="6699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5B7F9-9E5B-4CB4-8518-7B9CD015A803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9486D-82B4-468E-8394-4EA38FD54FCD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20: Artificial Life and Puzzle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is a god with limited powers who gets more power from simulated worshipp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mnipresent interaction model and an aerial perspecti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often share qualities with CMS (indirect control of population) and real-time strategy (compete directly against a rival god)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847B8-0438-4F78-ACEA-5F9EBE2A038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2E686E2-F49B-4C3A-ABE1-19A476A2682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d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economy of god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’s power (mana) grows with the number and prosperity of his worshipp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ize of the population influences the maximum amount of mana the player may have and the rate at which mana is restored when it is below maximu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ositive feedback can be limited in various ways: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eople do not reproduce instantaneously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aking land suitable for population growth costs man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ana cost of using higher-level powers rises exponentially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D3DC3-284A-4F89-83D0-3B9EF07C01EE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5FCCDD9-1DD1-4BD4-A85E-88E5C8AD555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d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n god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imary challenge is to produce population grow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e must also damage the other god’s worshippers and repair the damage the rival god does to the player’s peop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design a god game, start with the question of what powers you would like the god to ha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god game needs a lot of interesting animations for the peo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47864-E84E-435B-BC99-A36AE1BFF7F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4C3D962-238B-4181-8545-93A0A4EE41D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tic A-lif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are about managing a population over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tries to achieve goals for the whole popul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’t concentrate too much on individu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ing a geno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enome defines the creatures’ inheritable characteristics such as eye color, hair color, height, etc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eles are traits inherited from each pare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26240" indent="-31284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f parents have different traits, usually one wins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brown eye allele dominates blue eye allel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00492-17B9-4DAF-8AC2-F60CC0623EB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1B7DF0F-407B-4A3E-B4C0-E1492257337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tic A-life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nge to the gene caused by an environmental fact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tations may benefit the population by introducing random new values into the gene po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fe span, maturity, and natural sel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creature needs a natural life spa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evolve through natural selection, creatures must have a time of immaturity before they can reprodu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Genetic mutations that cause death in children do not get passed on because children do not reproduc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EE255-F707-451B-91E1-184531C6735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7ADBA58-A44D-42A2-98CF-AB56516CE1F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tic A-life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does the player do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new individuals and add them to the population to see how their genes influence the popul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dd and remove environmental hazards that would weed out certain ge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 with the rate and nature of mutation by adding or modifying mutagenic objects or areas of the environme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te individuals to select for particular characteris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66FF2-84C3-4BF8-8C7B-D9269F03FE0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A513E11-FE5C-4182-98CD-A7D9BB1268E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puzzle games, puzzle solving is the primary activ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games usually provide related challenges, variations on a the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types of puzzles offered include pattern recognition, logic, or understanding a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uzzles give the player clues that have to be solved to meet the victory cond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212A2-F7C7-4998-89EA-8931F47E9E4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633E1C0-5095-4631-94BE-E15A87454AA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631960"/>
            <a:ext cx="4038480" cy="36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nd inspir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plif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construction se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2631960"/>
            <a:ext cx="4038480" cy="36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 the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ise a sequ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y attention to presen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159876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cott Kim’s eight steps in puzzle game design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468A1-31CF-4A2D-964E-6937FA38F03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65EA78C-CA0C-4FC8-AC05-E732D737A1D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at computers bring to puzz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able nonphysical or awkward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computation f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force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rd player moves and undo th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ucture the experi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bells and whist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able online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62D03-88CC-4B34-BC0C-CECE1550D6E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1F6FBDF-EF6F-44BA-88D9-CCFC1EC86E6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ecking the victory condi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th to the solution might be different than you plann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eck the solution, not the way it was reach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C1383-CFF5-43F5-A724-73CAAF6ADEF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A80E4F1-16E2-4D76-9E4F-2404905C0FD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t forms of artificial life games and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basic artificial life system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steps to designing puzz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player’s needs for puzz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D82C6-FE52-4CBD-9FD7-CF09D3323B5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C1846BB-8EF4-456E-8836-3E48C8353CC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 artificial life game and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basic artificial life syst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steps to designing puzz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xplain the player’s needs for puzz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72E88-3F48-4821-9A2B-FE6E5B70322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0A2F520-471E-4FA6-902F-BBF6DE2C48C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 life is a branch of computer science researc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-life involves modeling biological process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-life is the study of emergent propertie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unanticipated qualities or behaviors that arise out of the interactions of complex system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A-life games typically focus on maintaining and growing a manageable population of organism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48981-8D89-4030-9E88-4A82CCAF2AF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3328A26-3459-422E-877F-533124216E6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 pe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can be simulations or fantasy pe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most always cute; seldom reproduce or di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concentrates on training, maintenance, and watching the cr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t needs a lot of AI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riety of triggers and behavi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w the pet's emotions through behavi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830DB-9520-4CA3-830D-FE377B13ADA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1EC9685-3C11-44A9-95D2-565E5EFAB91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 pe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nfluences pet's emotions through inter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t should interact meaningfully with other pe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t must be able to lear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ich AI distinguishes artificial pets from other A-lif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ificial pet is a software to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 victory cond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FAC87-B474-4876-A1B2-BB8A59BA490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D522522-2390-402B-B11F-71E4B5DF943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he Sim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ontrols the sims physically and indirectly affects their relationshi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ch sim has a person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oss between an artificial pet and a CM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me has an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017AC-5B2F-48BF-8FB5-46DAB2E2381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4A34C68-5B99-4A94-A01C-4B4CF725881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he Sim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im has six needs that must be met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eeds drive the sims' behavi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eed-based AI is the heart of most simple behavior simula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ims (in the first edition) have six skills they can impro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ims teach themselves skil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ime management is critic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F9FE8-0BCF-46DD-8510-4FB777A8DC4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7902CAE-EE4B-4569-A379-DC34608FDAA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he Sim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sonal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ame tries to simulate relationships among individu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riables define each sim's personality and how they react to each oth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ccess of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The Sim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is based on the unprecedented scope for creativity it offers and its emphasis on interpersonal relationshi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8EDF0-DDE7-4E97-9BFB-CCDEBF568E0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10C617B-99F2-423E-A70F-6CA525E1961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ing affinity between two character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“I Can’t Stand” Rule – A character cannot stand another character who has an attribute above a certain thresho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irds of a Feather” Rule – Characters with high levels of one attribute are attracted to others with a high level of the same attribu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posite Attract” Rule – Characters with high levels of one attribute are attracted to others with a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low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lue for the same attribu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9EFBD-14AB-42BC-8E76-8E0C8D0ADA4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CDA5526-DA83-4926-B280-FB760041CBF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12T13:24:51Z</dcterms:modified>
  <cp:revision>528</cp:revision>
  <dc:subject/>
  <dc:title>Fundamentals of Game Design, 2nd Edition - Ch 20</dc:title>
</cp:coreProperties>
</file>