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DD7F4-E763-4A9A-8FEB-8CC9FF9992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vatar can be a mix of the two types. Some characteristics are known, but the details are not fully fleshed 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2BF9AA-32AB-4D04-92A1-89E5D95B4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18170D-3F64-4C0E-905E-48BF8FB47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B04A87-8638-4699-90BD-EA3F76A19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ED2AB7-86C6-4C90-AADA-6A72E5C32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9FAC6-D949-4688-9E54-AA33CDEC0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25094-A605-420C-8BF6-982A113F1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DEBA0-0E6A-4C20-94C4-33FF243F7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C4E0B-0049-41BB-B6B3-C40BBF79C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FEB8C-BC62-45AE-B32C-3F9EEDD4B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776B5-FDBC-4F5B-918E-F4F5EB294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1ACBF-5150-4E01-9B31-45C190A4D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B3B65C-38DD-4EAA-A084-BF62D674B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CC462-3652-4AAE-97D7-EB72A2760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52F76-1BB7-4211-B7DF-A0F95AF7E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19EF0-F1F7-4A97-A8DE-31E463A1B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D145B-AA2A-4E2B-AA83-364FF6205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ED13F-7511-4A2C-AA39-A032C9A0A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501FE-68FC-45D6-AA96-54809E07A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1312C8-9BD4-4BDA-97AC-3A0E8C082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A5E36F-4DB3-4740-9FE7-385A0F2AA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DED5AC-E153-4D84-9D33-5285A83F5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84CD30-F953-4816-A509-BF960E06D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47B84D-43F0-4BCF-8849-A2C3712BE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71174C-00C8-4158-B207-E2FF8BF8A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307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6  Character Develop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60E49-6885-491F-9FBF-96B70F049346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A502D-1403-4FF4-8AEA-AB93A237A483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48233-575E-4A5D-A47E-6877007DDEF1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6: Character Development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168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ing Your Avatar Character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ow do you want the player to relate to the avatar?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lect the control metho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lect the appearance and personality (unless the player designs the avatar)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re details create more independ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lect qualities the player will find appeal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CEBEF6-FC22-4A77-B340-5E50D36E6A3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345F9CE-93D1-4369-B912-F5BFDCFF8AB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Visual Appearances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t-driven character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st method for simple characters who don’t change during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-driven character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st method for complex characters or characters who change during the gam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5A254B-68F1-4183-9A64-A1BF34A59BF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11FE274-AA4C-43A9-9833-63F658C7A4F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haracter Physical Typ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s fall into three general categorie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umanoid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physical features like a human’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nhumanoid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shaped like vehicles or machines, animals, or mons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ybrid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beings such as mermaids or human/machine combina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t-driven characters are usually stereotype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common character stereotypes are cool, tough, cute, and goof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75A915-7224-4D68-A373-63AE37E80AC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E0D67B2-DF89-4429-9A14-D3BD817F197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haracter Physical Typ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ypersexualization is exaggerating sexual attributes of charact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oid hypersexualized characters because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are cliché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appeal only to a puerile audi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may turn off part of your target audienc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995FB2-BD2D-4E86-A696-93E0C79277B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FC32B01-4E2E-432D-B1AD-AB88A224A7D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Clothing, Weapons, Symbolic Objects, and Names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ccessories reveal personal sty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oice of weapons can also be reveal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ransferring an object can symbolically transfer a power or rewar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ames can reveal a character’s personality or ethnic backgrou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f you overuse this technique it will feel cartoon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9C9548-36ED-4A64-875A-6F1ED72055D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3323D4E-17C0-41EC-9053-19F3BBC5750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lor Palette and Sidekick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 a signature color for the main charact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oose a color palette to reflect character’s attitudes and emotional temperam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dekicks offer several benefit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allow you to give the player additional moves and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extend the emotional ra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can be used to give the player information he wouldn’t get any other w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2FD40C-71A1-4FFD-983C-15CE6028B44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C30F939-C562-4D78-9DD5-F4CAA7AA631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reating Character Depth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can convey a lot about a character through appearance, but not everyth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f you begin character design with the character’s role, personality, and behavior, you are doing story-driven character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decide these things first and then let artists develop a visual appearan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06C961-936F-4F2C-A08A-FA54DD634AEC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D37468D-85E5-4BA3-9D8A-2257F15D23F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Role, Attitude, and Valu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very character in a game plays a ro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 design characters, you have to envision them and answer many questions about them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eate a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backgrounder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, or character background paper, for major charact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how character personality through appearance, language, and behavio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92E5AD-A9EE-4401-B778-7B6D1AD1071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BC5510F-082D-4ABE-BC93-0AF1C1E0EE5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ttribut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ttributes are the data values that show a character’s location, health, property, etc.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ttributes can be divided into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atus attributes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that change frequent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Characterization attributes that change infrequent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  <a:ea typeface="Arial"/>
              </a:rPr>
              <a:t>Attributes a character needs depend on the genre and nature of the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66DC02-5382-4F5B-853D-4573C76D30F2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A2D1774-05AD-49C9-8339-5168B7ABC1C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haracter Dimensionalit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s can be classified into four group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Zero-dimensional characters display only discrete emotional sta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e-dimensional characters have only a single variable to characterize a changing attitu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wo-dimensional characters are described by multiple variables that express their impulses, but those impulses don’t conflic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ree-dimensional characters have multiple emotional states that can produce confli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730A50-DB76-46B1-BAB9-703EFBE1E88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E63A8C9-A762-4082-AE1E-959BC975317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basic goals of character design in gam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cognize the difference between a </a:t>
            </a:r>
            <a:br>
              <a:rPr sz="3000"/>
            </a:b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-defined avatar and a specific or nonspecific avata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issues involved in making non-gender-specific character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9D20F8-3C29-474B-B9A2-B19E7283F36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14F7289-901E-4CF2-8177-354F3E16B88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haracter Growth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game that aspires to be more than a simple adventure must include character growt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 build character growth into a game, decide which characters will grow and how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s often use physical growth because it is easy to show and imple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how personality growth through changes in language and behavio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4F45D0-9C63-4DDB-82BD-ED982B5E88CE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ABB7F25-30B4-417F-8A47-5BCC3EB9C06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haracter Archetyp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ny stories that follow the Hero’s Journey pattern include archetypal charact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racters fundamental to storytell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ound in stories from all cultu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y be fundamental to the human psych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ad the works of Joseph Campbell and Carl Jung for more idea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n’t implement them slavishly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0EB7FD-4A3A-4568-8648-63C5690D63A2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EF943D4-195F-466E-B083-B4F8AE9A78E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udio Desig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ounds reveal the charact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und eff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sical the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ocabula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rammar and sentence constructio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c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live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ocal quirk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A25604-DA7C-49D8-B48C-22B354197B9A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649961C-1963-4AA8-9503-6B0E1E78F15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a charact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istinguish among a player-defined, specific, and nonspecific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make non-gender-specific charac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visual and behavioral attributes to create a charact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reate art-driven or story-driven charac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sound to define charac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DC4B0D-7274-41BA-A1FD-D32508D5CD52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3C425D0-4EAD-4131-9C91-4BA553C298E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visual and behavioral attributes used to help create characters in gam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 the techniques of either art-driven or </a:t>
            </a:r>
            <a:br>
              <a:rPr sz="3000"/>
            </a:b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-driven character design to create your own game character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93EE2D-8042-42CD-AE16-2F7FD7193A1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4EE1CEC-57A8-4DBA-8C3C-B885C06158F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oals of Character Design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s in many genres structure gameplay around charact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s should be distinctive and credib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ultimate goal of character design is to create characters th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ople find appeal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ople can believe i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layer can identify wit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67A89C-63E4-4A92-8520-C10E23ED1D6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3612FC3-4A08-4C6B-96BE-E4C68DBF218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The Relationship Between Player and Avatar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lationship varies from game to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ctors that affect the relationship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d the player design the avatar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s the avatar visible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is the avatar controlled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881A6D-D185-425F-AD94-C1D62730A2F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EDE18DA-C0AB-41E6-BC0B-00143A2CFF6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Player-Designed Avatar Characters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creates the physical attribut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creates the personal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839878-E6CB-4DB5-ABF9-FF19CD521DE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0EBA14D-B38B-4F86-B87B-191FF551C73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pecific and Nonspecific Avatars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onspecific avata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 is assumed to “be” the player, so appearance, personality, etc., are undefin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ery limiting to the design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mon in early text-based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pecific avata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tailed characters with histories and personaliti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d in games with graphics and strong storylin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C85BE8-22F6-4778-BDAD-1E1372773AD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304F590-5984-44BC-BE1A-BAE033C55B2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The Effects of Different Control Mechanisms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direct contro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clicks where the avatar should go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is a guide to the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rect contro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steers the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i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the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A883F-E5E0-4059-93F7-7A26D36DCCC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AE939BB-8F59-46E3-A582-53FC522D955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Male and Female Players and Characters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le players do not identify strongly with their avata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en tend to treat avatars as puppets and often use default avatar without customiz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omen identify with their avata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omen tend to treat avatars as extensions of themselves and an opportunity for self-expres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make a game more attractive to women, allow them to customize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2B2D3C-58F6-4A2D-9312-C1893C85987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72D8C62-C982-4A8A-991C-37E8AC3E83B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6:10Z</dcterms:modified>
  <cp:revision>152</cp:revision>
  <dc:subject/>
  <dc:title>Fundamentals of Game Design, 2nd Edition - Ch 6</dc:title>
</cp:coreProperties>
</file>