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FC21-9748-4CFB-A746-82832C248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known as m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represents the player in the game world. Frequently, players make avatars that physically resemble them or how they wish they appe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hat play is always limited by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154C6-F60B-4234-9D25-005DDE88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F6F8A-BE30-4AC7-B229-6CF161C3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930FC-C046-4201-A93E-74E8AE14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36D41-7F92-4C22-905C-3F551CDC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7BA4-C379-4C53-A8B8-4F3902A27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2EC5-B3CB-4D45-AD9F-F0A50862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E9DD-4F16-4643-91D5-8EA722C4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A258-ABC9-478C-8B4A-D55AF89F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8B8A-63CA-441C-B4E7-B9A43BBC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35C3-D8CD-404C-8B8E-E54072E6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ACA5-22AE-407B-933C-A0F8459B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428E8-EBCE-4EDA-A25B-8047846F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B8B7-E692-4E36-A437-B050E5FA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66E1-7FDF-4B84-B6A6-29971472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42F0-080B-4A55-9BA2-2D0DDEDA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1441-E26F-41DF-824F-D15D8755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6EC2-C92F-4418-905C-67000A50B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FF73D-7613-4119-86C8-9D4E0DCF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14F8D-8028-449F-9A39-ABE56022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F9A0E-BA89-4FEA-9DB9-1FBBCFA6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82C10-2F14-4A17-ABB7-C1E8B2F6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32C5C-54C8-4A03-BDE2-64FD2A08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FF5A0-0421-40DD-B6DD-2B56ED4B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ACA30-7A8B-4D96-9F2D-8D0138FE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5  Creative and Expressive 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6188-CF76-47B7-A5E9-A963DDF41EF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91B0-4706-4030-BE67-6EC3FABE539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6618-C982-4DE3-8A09-4466AE229E5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5: Creative and Expressive 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easuring Aesthetic Cre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like physics, computers have no innate way of measuring aesthe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must provide a system. Some possibilit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xed aesthetic rules (e.g. certain colors clash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ystem of trends the player can resear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ublic to vote onl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022D0-3CA7-429D-B702-6E06D5A671E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31459F-27DF-45B6-83C1-35CF67260D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reeform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s unlimited time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itionally known as sandbox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ually offers fewer rewards or no rewar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DF141-2889-4A27-97B6-E955DE63C6D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1233AF-716D-48BE-AE5F-59DBCC1C6B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features that allow players to create and share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ums and captured images assist this abi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16AA1-35FE-4453-9AD6-753DBDE70B6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05AED8-C5BD-4257-8736-6E1D1E4818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Modific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utmost creative freedom, allow players to modify the game itsel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core gam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tends the lifespan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have no control over the m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players to create mods can put the reputation of your game at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66A99-FAC4-48FB-AEA0-F29A4583B5A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98CADE-5A86-42B4-A100-CCE89031AE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evel Editor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construct new levels for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y be able to construct a new landscape, place challenges in it, and write a script for the game engine to r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ols must be included with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54F51-A980-4FE8-B7E2-0E562B23DC3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053DD4-4EC7-45A5-96AC-398A4A910D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Bo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ly intelligent opponent that the player can progra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create tougher opponents than the original game includ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C7C55-BADF-42E9-8391-5F67CA085EE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889108-B3F9-4AB1-B765-C9D52621F2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players express themselves through their avata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storytelling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players create m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93445-D7C7-4716-969A-8D49BB45460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484385-E7B4-4CB3-9A49-596165898F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self-defining play as a way a player can project his personality into the game world by selecting an avatar and the avatar’s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creative play as a way to allow players to design or construct as part of th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B19FA-6CA7-4F89-886D-7A69C6C09BE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DC8735-F81A-4489-9401-A5108365FA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fference between constrained creative play and freeform creative 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games can provide storytelling play by allowing players to create sto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ways in which you can provide additional creative freedom by allowing the player to modify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44260-2FC3-4F40-BE8C-C2A8F674E4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200F78-2552-4266-BC0B-85F097141A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lf-Defining 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s the player project his personality into the game world by means other than gameplay choi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tho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ustom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BD7A4-B380-4291-9A60-1511F600E1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6C2AF8-0F37-4AA4-A746-335D096FBE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al attributes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e fundamental aspects and change slowly or not at 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ive the current status of the character and may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assign values to characterization attributes, they define themselves in a creative w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D7361-DEFF-4565-BB4E-E99D902996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FF50EA-488C-4D34-81C0-C286F1FFC7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ing players to set all functional attribute values may introduce bugs; inste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players a fixed or random number of points to assign among all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 set of default or recommended settings for new players who want to get started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earn the right to set their character’s functional attributes any way they lik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43AF7-4846-4A04-ADBE-4A4285F634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717CB3-2E19-4582-B1EE-BD2A0361FE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smetic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do not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make a game more fun at a low implementation co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ical cosmetic attribut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eadgear, clothing, shoes, and jewel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ir color, eye color, skin col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dy type or siz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 color, decals, insignia on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3D139-E4A7-422A-907B-CE5D048806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63CD25-CDDF-480B-8DBF-296F357086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save and reload cre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rized creative play can be categorized a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ained creative pl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reeform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31E67-A76D-41F2-9882-1F05C695A00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B495ED-6EE8-49A7-9757-463E4DE6C4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nstrained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layer can create only within artificial constraints imposed by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 can be limited by the econom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physical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aesthetic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FEF3E-861F-4849-984B-CA93C5822A0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CDA222-C6BE-4B06-9DEE-61330E591E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38Z</dcterms:modified>
  <cp:revision>136</cp:revision>
  <dc:subject/>
  <dc:title>Fundamentals of Game Design, 2nd Edition - Ch 5</dc:title>
</cp:coreProperties>
</file>