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EAAD-56E0-4A05-9A32-FA1FED743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on sequitur is something that does not follow log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similitude means having the appearance of truth. Sports games must be reali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351B7-54DF-4418-A991-1A8253926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85FA1-08D0-4BC1-8372-054F511B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AEFC8-BABE-44F8-A2DE-F1CDA48C3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6F04B-33B6-414B-9C50-D06BE0C1A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61F4-7532-4C52-AAC2-7B65C43CE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FF46-EA3A-458C-83EF-EEB83996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1741-1FBF-40C7-B328-BA616A74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8519-19AF-4C6C-8E02-72BFD937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DB01-0647-4E48-9093-DD59444B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83E0-D493-490C-9A87-B96573E4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0468-938F-46D7-B5FA-F814BDCE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4AB72-5911-432F-88C2-70D3D7ED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B100-7C0B-4B60-8623-047D8BF2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F954-8F97-4F08-BEA8-A18A2E9D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9BBB-C8E7-46E6-9B2E-5B7D7CF6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B792-6F2C-4858-9887-E36B1C238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10E8-10D5-42B5-B968-48986A425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C5283-81AF-4EE8-928B-C1E7F48E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3300C-5682-428D-A66A-2FF87F5B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BF9A2-35EC-41B8-AB89-0E0B4A81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A412A-E68F-45E5-9078-F8C6C2EA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C68D2-B238-41C5-9592-43DF9F79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51179-DCA4-414D-86E7-11ACE1E5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EDCBF-E01E-41EF-9898-1913C109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37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2 General Principles of Level Desig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AEBE-4EC8-4EA4-8130-D160FA56C3EE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F7D7-F701-4D03-BEA1-A83858AB2551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4930-D04F-4BB6-A7EC-424BDAB72222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2: General Principles of Level Design</a:t>
            </a:r>
            <a:r>
              <a:rPr b="0" i="1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allel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odern variant of linear layou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ariety of paths can go through th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n reflect a foldback story structur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ing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ath returns to its starting poin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val tracks or twisting road-racing tracks are ring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for rac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49520" y="4191120"/>
            <a:ext cx="1457280" cy="2158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7913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F10D1-93E9-4933-A8E7-CCF18A940AA6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C87876-6359-4F9D-86E2-A507F8137D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twork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paces connect to other spaces in different way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ive the player freedom to take any path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ories must be able to tolerate player experiencing events in any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b-and-spoke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ntral hub is usually a safe zon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rovides some choice of where to g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k off some areas to control sequence a litt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4419720"/>
            <a:ext cx="1905120" cy="1857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638680" y="4343400"/>
            <a:ext cx="2286000" cy="1901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9366E-DF8B-489F-9E48-828423EEBE81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196FD9-5762-4A66-894B-909395F598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ations of layou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bines aspects of several layout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-playing games and adventure games often use combinatio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68760" y="3429000"/>
            <a:ext cx="3605040" cy="267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18EC3-AC0B-44F7-9250-48AA795076D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800C68-AA76-4C53-A7CB-A22B68456D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 assembles components to create the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gh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 palet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nd atmospheric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visual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bient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audio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2AE96-9196-4C57-A482-2395B292078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E3608A-C06A-4759-9B51-DCC76A39D3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 refers to change o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esigning progression, consider these facto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505320"/>
            <a:ext cx="3886200" cy="23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c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durat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cillary rewards and environmental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actical gameplay reward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3505320"/>
            <a:ext cx="38862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fficulty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ons available to the player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ory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growth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31266-67E3-4233-A992-1BA749B4978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CE7AA0-DD45-4BBB-8470-7C90537DE6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cing refers to the frequency of individu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nre affects pac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deathmatch shooters use the fast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use the slow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with fast and slow peri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all pacing should remain steady or become more rapid near the end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8E24D-EC5F-436E-8DDD-B4F91878435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F1E9E9-D4EB-4AD2-8DE5-BE233B84BD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utorial levels teach the player how to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what scripted experience that explains the game’s user interface, challenges, and ac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oduce features in an orderly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witch off features not yet introduc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game is complex, use more than one tutorial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ight screen elements when you introduce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 player go back and try things again conveni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iceover narration or text can expla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rule: Make tutorial levels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op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5EA03-82B7-4BC3-BEFE-5719C697FCC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B5A102-9B6D-4A32-816B-BC2F6824A0C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to level design handoff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st features in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rough overview map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pha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level in detai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sequence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cument the gameplay, art, performance, and code requir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4B286-6FF2-4E3C-937E-4F1B611EBDC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73687D-9313-4EEE-ADDA-F1E09ABD23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toty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emporary models of the landscape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s serve as blueprints for the art tea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the proto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edback from the design, art, programming, audio, and testing tea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64C31-E86D-41BF-96D3-1023D4DE51B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58C426-ADFB-4050-8C61-0003CEB6F5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finement and lock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corrections based on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and correct until the level is flawl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 to art handof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all files to the arti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l artists how the level should look and 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act the audio team for any needed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32E50-3F08-42DF-8399-EE8AD49A75C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A8277D-CED2-402C-9DBD-F9669824ED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level design can enhance or undermine a game’s story and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 between universal and 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possible level layouts and understand when to use each and how to combine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206AC-AADD-4E53-9724-FDF73974BD5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D0FECC-1807-49A1-9B92-7C50E12F4D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 art and rigging pa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 team builds the real artwork and rigg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might need to incorporate the new content into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 to level design handoff and review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 final art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duct a re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F0E45-743A-4D4C-A64D-FEA22F8373B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B18E28-6F67-482C-A4C3-28E210C9DF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nt integ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semble all the assets into the complet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just any rigging as necess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g fix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for bugs and mistakes and hand off to Q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testing and tun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A creates a test plan and begins alph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oroughly alpha tested, hand off to bet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179F3-DF2D-44AA-ABD4-17762A30552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432017-443F-4B4C-A24F-F8CAE72141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t the scope righ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within your available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common to design something that’s too bi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events in a game make it harder to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rewarded, not punished, for using their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40596-F210-4751-BA13-2B95A0F83A2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736A7E-5BCE-475A-BF44-A8A24A5BC1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typical levels optiona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break the player’s suspension of disbelie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could prevent some players from complet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n’t show the player everything at o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w features gradu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ain the player’s inter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DF2E6-F3EC-4AE8-89A6-3B27F3D8EC6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97A186-0431-4442-9096-20D1CA2E09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ver lose sight of your aud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-centric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derstand your target audience and deliver what they w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d the “Bad Game Designer, No Twinkie” articles for more examples of design err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ww.designersnotebook.com/Design_Resources/</a:t>
            </a:r>
            <a:br>
              <a:rPr sz="2600"/>
            </a:b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_Twinkie_Databa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B740D-BA60-4BCD-A6C4-C1F9A1940C1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CCC7F1-7117-47FB-921A-50AE2C9126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pply key design princip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variety of layo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tmosphere, set a pace, and build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lete the level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common pitfalls of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C1075-7A4D-4E67-A569-04F6BE40188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1EE778-2ED8-441C-9B1D-EFE31E32BA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atmosphere, pacing, and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aspects of the level design proc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some of the pitfalls of level design, such as inappropriate scope an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269E3-6144-4D85-9F32-E678A83392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00066C-1ED9-4658-AE71-5F71456A48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Level Design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403848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pace in which the game takes pla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itial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t of challenges within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0" y="34290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ermination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terplay between gameplay and stor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esthetics and mood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: constructing the experience for the player using components from the game designer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s create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842B4-F13B-4414-B146-C1C68DB2E12B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49FD34-87D0-4F11-B1B9-8E3262CF26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the early levels of a game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e player surmounts a challenge that consumes his resources, provide more resourc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early inform the player of his short-term go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5ABD1-B5E3-457B-A91B-D6313AF9DC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6BBD6F-31C0-48E3-A1B6-C1544E0662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lear about risks, rewards, and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the player for skill, imagination, intelligence, and dedic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in a large way, punish in a small w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nd more resources (polygons, memory, CPU time) on the foreground than on the backg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rpose of an artificial opponent is to put up a good fight and then lo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multiple difficulty setting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502A7-A9AD-4A86-982C-2975EE5D6C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380284-A865-4984-9E64-4F4EAA0E23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y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-playing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opportunities for character growth and player self-express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risimilitude is vit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hicle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skillful maneuver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80950-BB5D-45BE-8A0A-29B4D29C38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5AC0EB-86C2-43EC-98CF-972178CB2A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 and management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an interesting variety of initial conditions and goa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struct challenges that harmonize with their locations and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lif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te many interaction opportunities for the creatures in their environmen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ve the player time to think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26357-BBA0-4334-8567-3EFFAF1E0DC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10B89A-F136-4FE0-B098-9513108D5FD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ow unconstrained move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rrespond to the outdoo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in war games and role-play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near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quire player to move in a fixed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 move only to next or previous are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traditionally in side-scrolling action games and 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4398840"/>
            <a:ext cx="2361960" cy="1928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E86EE-76A4-45E1-83D8-4A6FA6685F63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432315-C368-4DFB-8478-D7E7686D7F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45Z</dcterms:modified>
  <cp:revision>242</cp:revision>
  <dc:subject/>
  <dc:title>Fundamentals of Game Design, 2nd Edition - Ch 12</dc:title>
</cp:coreProperties>
</file>